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12.png" ContentType="image/png"/>
  <Override PartName="/ppt/media/image34.jpeg" ContentType="image/jpeg"/>
  <Override PartName="/ppt/media/image36.png" ContentType="image/png"/>
  <Override PartName="/ppt/media/image37.jpeg" ContentType="image/jpeg"/>
  <Override PartName="/ppt/media/image13.png" ContentType="image/png"/>
  <Override PartName="/ppt/media/image40.png" ContentType="image/png"/>
  <Override PartName="/ppt/media/image41.jpeg" ContentType="image/jpeg"/>
  <Override PartName="/ppt/media/image43.jpeg" ContentType="image/jpeg"/>
  <Override PartName="/ppt/media/image44.jpeg" ContentType="image/jpeg"/>
  <Override PartName="/ppt/media/image45.png" ContentType="image/png"/>
  <Override PartName="/ppt/media/image18.png" ContentType="image/png"/>
  <Override PartName="/ppt/media/image6.jpeg" ContentType="image/jpeg"/>
  <Override PartName="/ppt/media/image5.jpeg" ContentType="image/jpeg"/>
  <Override PartName="/ppt/media/image39.jpeg" ContentType="image/jpeg"/>
  <Override PartName="/ppt/media/image8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360" cy="3429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0B46-FC1E-49AA-9DF6-CC5F31E289E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234" name="Shape 89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F62E-6465-4565-A082-E1B0080A99F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548-80D5-4BB7-AAD5-1B0A3282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480" y="142560"/>
            <a:ext cx="8961120" cy="58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9440" y="797040"/>
            <a:ext cx="891216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9440" y="3510360"/>
            <a:ext cx="891216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E8A8-1257-400F-9240-6F460B4F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480" y="142560"/>
            <a:ext cx="8961120" cy="58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9440" y="797040"/>
            <a:ext cx="434880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797040"/>
            <a:ext cx="434880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9440" y="3510360"/>
            <a:ext cx="434880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510360"/>
            <a:ext cx="434880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249F-9414-4671-9B82-14ED560B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480" y="142560"/>
            <a:ext cx="8961120" cy="58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9440" y="797040"/>
            <a:ext cx="286956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23000" y="797040"/>
            <a:ext cx="286956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6200" y="797040"/>
            <a:ext cx="286956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9440" y="3510360"/>
            <a:ext cx="286956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23000" y="3510360"/>
            <a:ext cx="286956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6200" y="3510360"/>
            <a:ext cx="286956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15A8-4751-4B31-A771-484CDA12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480" y="142560"/>
            <a:ext cx="8961120" cy="58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9440" y="797040"/>
            <a:ext cx="891216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126-9E8E-4362-98F8-CD2FFA7F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480" y="142560"/>
            <a:ext cx="8961120" cy="58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9440" y="797040"/>
            <a:ext cx="8912160" cy="51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346-90E0-4F5D-A85A-BB00D5BA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480" y="142560"/>
            <a:ext cx="8961120" cy="58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9440" y="797040"/>
            <a:ext cx="4348800" cy="51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797040"/>
            <a:ext cx="4348800" cy="51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0ECF-5DF1-4705-A242-2F7611D5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480" y="142560"/>
            <a:ext cx="8961120" cy="58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CCA8-7EE1-461D-A429-7C891B31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480" y="142560"/>
            <a:ext cx="8961120" cy="27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3219-C597-47FB-8202-6CFA1BAF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480" y="142560"/>
            <a:ext cx="8961120" cy="58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9440" y="797040"/>
            <a:ext cx="434880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797040"/>
            <a:ext cx="4348800" cy="51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9440" y="3510360"/>
            <a:ext cx="434880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6F7E-4B0D-4FF7-A654-BFA5592D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480" y="142560"/>
            <a:ext cx="8961120" cy="58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9440" y="797040"/>
            <a:ext cx="4348800" cy="51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797040"/>
            <a:ext cx="434880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510360"/>
            <a:ext cx="434880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42E-AC37-45EA-BA75-E1F3A16E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480" y="142560"/>
            <a:ext cx="8961120" cy="58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9440" y="797040"/>
            <a:ext cx="434880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797040"/>
            <a:ext cx="434880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9440" y="3510360"/>
            <a:ext cx="8912160" cy="247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126-00B3-4CEA-88B7-CD53B0F8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480" y="142560"/>
            <a:ext cx="8961120" cy="58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9440" y="797040"/>
            <a:ext cx="8912160" cy="51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2E0E-DCCF-44C9-8F27-7686A9611851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Shape 15" descr="E:\Krithika\CLEAN logo.JPG"/>
          <p:cNvPicPr/>
          <p:nvPr/>
        </p:nvPicPr>
        <p:blipFill>
          <a:blip r:embed="rId2"/>
          <a:stretch/>
        </p:blipFill>
        <p:spPr>
          <a:xfrm>
            <a:off x="6912000" y="95400"/>
            <a:ext cx="2049480" cy="634680"/>
          </a:xfrm>
          <a:prstGeom prst="rect">
            <a:avLst/>
          </a:prstGeom>
          <a:ln w="0">
            <a:noFill/>
          </a:ln>
        </p:spPr>
      </p:pic>
      <p:cxnSp>
        <p:nvCxnSpPr>
          <p:cNvPr id="6" name="Shape 16"/>
          <p:cNvCxnSpPr/>
          <p:nvPr/>
        </p:nvCxnSpPr>
        <p:spPr>
          <a:xfrm>
            <a:off x="60480" y="705960"/>
            <a:ext cx="8961840" cy="1080"/>
          </a:xfrm>
          <a:prstGeom prst="straightConnector1">
            <a:avLst/>
          </a:prstGeom>
          <a:ln w="25560">
            <a:solidFill>
              <a:srgbClr val="008000"/>
            </a:solidFill>
            <a:miter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dreemtool.com/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reemtool.com/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pn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40.pn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43.jpe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2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  <a:ea typeface="Calibri"/>
              </a:rPr>
              <a:t>CLEAN ENERGY ACCESS NETWORK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Calibri"/>
                <a:ea typeface="Calibri"/>
              </a:rPr>
              <a:t> http://thecleannetwork.org/  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Calibri"/>
              </a:rPr>
              <a:t>MICRO GRID  AND  DREEM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84240" y="3658680"/>
            <a:ext cx="72309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88"/>
                </a:solidFill>
                <a:latin typeface="Calibri"/>
                <a:ea typeface="Calibri"/>
              </a:rPr>
              <a:t>11</a:t>
            </a:r>
            <a:r>
              <a:rPr b="0" lang="en-US" sz="2400" spc="-1" strike="noStrike" baseline="30000">
                <a:solidFill>
                  <a:srgbClr val="888888"/>
                </a:solidFill>
                <a:latin typeface="Calibri"/>
                <a:ea typeface="Calibri"/>
              </a:rPr>
              <a:t>th</a:t>
            </a:r>
            <a:r>
              <a:rPr b="0" lang="en-US" sz="2400" spc="-1" strike="noStrike">
                <a:solidFill>
                  <a:srgbClr val="888888"/>
                </a:solidFill>
                <a:latin typeface="Calibri"/>
                <a:ea typeface="Calibri"/>
              </a:rPr>
              <a:t> such ISA SUN-Me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88888"/>
                </a:solidFill>
                <a:latin typeface="Calibri"/>
                <a:ea typeface="Calibri"/>
              </a:rPr>
              <a:t>Wednesday, the 18</a:t>
            </a:r>
            <a:r>
              <a:rPr b="1" lang="en-US" sz="2400" spc="-1" strike="noStrike" baseline="30000">
                <a:solidFill>
                  <a:srgbClr val="888888"/>
                </a:solidFill>
                <a:latin typeface="Calibri"/>
                <a:ea typeface="Calibri"/>
              </a:rPr>
              <a:t>th</a:t>
            </a:r>
            <a:r>
              <a:rPr b="1" lang="en-US" sz="2400" spc="-1" strike="noStrike">
                <a:solidFill>
                  <a:srgbClr val="888888"/>
                </a:solidFill>
                <a:latin typeface="Calibri"/>
                <a:ea typeface="Calibri"/>
              </a:rPr>
              <a:t> April, 2018 between 1100-1400 hrs at French Ambassador</a:t>
            </a:r>
            <a:r>
              <a:rPr b="1" lang="ja-JP" sz="2400" spc="-1" strike="noStrike">
                <a:solidFill>
                  <a:srgbClr val="888888"/>
                </a:solidFill>
                <a:latin typeface="Calibri"/>
                <a:ea typeface="Calibri"/>
              </a:rPr>
              <a:t>’</a:t>
            </a:r>
            <a:r>
              <a:rPr b="1" lang="en-US" sz="2400" spc="-1" strike="noStrike">
                <a:solidFill>
                  <a:srgbClr val="888888"/>
                </a:solidFill>
                <a:latin typeface="Calibri"/>
                <a:ea typeface="Calibri"/>
              </a:rPr>
              <a:t>s Residence, Gate No 4, 2/50E, Nyaya Marg, Chanakyapuri, New Del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B165-DD33-4F3F-8E87-40575CCFCC1A}" type="slidenum">
              <a:rPr b="0" lang="uk-UA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hape 128"/>
          <p:cNvSpPr/>
          <p:nvPr/>
        </p:nvSpPr>
        <p:spPr>
          <a:xfrm>
            <a:off x="4680" y="-39600"/>
            <a:ext cx="68295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Calibri"/>
              </a:rPr>
              <a:t>Decentralised Renewable Energy Evaluation &amp; Monitoring (DREEM) Tool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https://www.dreemtoo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6AC0-EBBD-4ED6-9895-55A93D1CA757}" type="slidenum">
              <a:rPr b="0" lang="uk-UA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ject 8"/>
          <p:cNvSpPr/>
          <p:nvPr/>
        </p:nvSpPr>
        <p:spPr>
          <a:xfrm>
            <a:off x="5726160" y="919080"/>
            <a:ext cx="3417840" cy="53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355680" indent="-343080">
              <a:lnSpc>
                <a:spcPct val="114000"/>
              </a:lnSpc>
              <a:spcBef>
                <a:spcPts val="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eveloped for assessing risk (both internal and external factors) especially in doing DRE business – a tool both for Financing institutions and DRE enterpri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14000"/>
              </a:lnSpc>
              <a:spcBef>
                <a:spcPts val="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eveloped in consultation with 40 stakeholders, Banks, Non Banking Financing Corporations, Financing Institutions, and DRE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14000"/>
              </a:lnSpc>
              <a:spcBef>
                <a:spcPts val="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hakti Sustainable Energy Foundation, with partial support from the Swiss Agency for Development and  Cooperation, commissioned Intellecap to design and develop this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ject 6"/>
          <p:cNvSpPr/>
          <p:nvPr/>
        </p:nvSpPr>
        <p:spPr>
          <a:xfrm>
            <a:off x="177840" y="851040"/>
            <a:ext cx="5589720" cy="5479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783B-FACE-4599-8BEC-D9DA885F4F12}" type="slidenum">
              <a:rPr b="0" lang="uk-UA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hape 128"/>
          <p:cNvSpPr/>
          <p:nvPr/>
        </p:nvSpPr>
        <p:spPr>
          <a:xfrm>
            <a:off x="60480" y="154080"/>
            <a:ext cx="8961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Examples of parameters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object 5" descr=""/>
          <p:cNvPicPr/>
          <p:nvPr/>
        </p:nvPicPr>
        <p:blipFill>
          <a:blip r:embed="rId1"/>
          <a:stretch/>
        </p:blipFill>
        <p:spPr>
          <a:xfrm>
            <a:off x="122400" y="804960"/>
            <a:ext cx="8808840" cy="5151240"/>
          </a:xfrm>
          <a:prstGeom prst="rect">
            <a:avLst/>
          </a:prstGeom>
          <a:ln w="0">
            <a:noFill/>
          </a:ln>
        </p:spPr>
      </p:pic>
      <p:sp>
        <p:nvSpPr>
          <p:cNvPr id="112" name="object 8"/>
          <p:cNvSpPr/>
          <p:nvPr/>
        </p:nvSpPr>
        <p:spPr>
          <a:xfrm>
            <a:off x="165240" y="5958000"/>
            <a:ext cx="820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4f6228"/>
                </a:solidFill>
                <a:latin typeface="Arial"/>
                <a:ea typeface="Arial"/>
              </a:rPr>
              <a:t>Additionally, users are required to provide projections for comparison with actual perform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hape 128"/>
          <p:cNvSpPr/>
          <p:nvPr/>
        </p:nvSpPr>
        <p:spPr>
          <a:xfrm>
            <a:off x="60480" y="142920"/>
            <a:ext cx="8961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Relevance of DREEM for DRE stakehol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BC8F-84D6-4377-820B-CE2B43F29F80}" type="slidenum">
              <a:rPr b="0" lang="uk-UA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ject 4"/>
          <p:cNvSpPr/>
          <p:nvPr/>
        </p:nvSpPr>
        <p:spPr>
          <a:xfrm>
            <a:off x="465120" y="5670720"/>
            <a:ext cx="8229600" cy="1115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spAutoFit/>
          </a:bodyPr>
          <a:p>
            <a:pPr marL="2755800" indent="-2574720">
              <a:lnSpc>
                <a:spcPct val="113000"/>
              </a:lnSpc>
              <a:spcBef>
                <a:spcPts val="213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rameters and benchmarks have been arrived at for diffe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55800" indent="-2574720">
              <a:lnSpc>
                <a:spcPct val="113000"/>
              </a:lnSpc>
              <a:spcBef>
                <a:spcPts val="213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lutions and stage of operations to make the  framework relev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55800" indent="-2574720">
              <a:lnSpc>
                <a:spcPct val="113000"/>
              </a:lnSpc>
              <a:spcBef>
                <a:spcPts val="213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 the DR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ject 6"/>
          <p:cNvSpPr/>
          <p:nvPr/>
        </p:nvSpPr>
        <p:spPr>
          <a:xfrm>
            <a:off x="1546200" y="1587600"/>
            <a:ext cx="2174760" cy="584640"/>
          </a:xfrm>
          <a:prstGeom prst="rect">
            <a:avLst/>
          </a:prstGeom>
          <a:noFill/>
          <a:ln w="25560">
            <a:solidFill>
              <a:srgbClr val="735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240" bIns="0" anchor="t">
            <a:spAutoFit/>
          </a:bodyPr>
          <a:p>
            <a:pPr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4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erceived risk of the  geography of 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ject 7"/>
          <p:cNvSpPr/>
          <p:nvPr/>
        </p:nvSpPr>
        <p:spPr>
          <a:xfrm>
            <a:off x="474840" y="1600200"/>
            <a:ext cx="974520" cy="984240"/>
          </a:xfrm>
          <a:custGeom>
            <a:avLst/>
            <a:gdLst>
              <a:gd name="textAreaLeft" fmla="*/ 0 w 974520"/>
              <a:gd name="textAreaRight" fmla="*/ 974880 w 97452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974090" h="983614">
                <a:moveTo>
                  <a:pt x="0" y="983551"/>
                </a:moveTo>
                <a:lnTo>
                  <a:pt x="973709" y="983551"/>
                </a:lnTo>
                <a:lnTo>
                  <a:pt x="973709" y="0"/>
                </a:lnTo>
                <a:lnTo>
                  <a:pt x="0" y="0"/>
                </a:lnTo>
                <a:lnTo>
                  <a:pt x="0" y="983551"/>
                </a:lnTo>
                <a:close/>
              </a:path>
            </a:pathLst>
          </a:custGeom>
          <a:noFill/>
          <a:ln w="25560">
            <a:solidFill>
              <a:srgbClr val="735a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ject 8"/>
          <p:cNvSpPr/>
          <p:nvPr/>
        </p:nvSpPr>
        <p:spPr>
          <a:xfrm>
            <a:off x="474840" y="2733840"/>
            <a:ext cx="2174760" cy="689040"/>
          </a:xfrm>
          <a:prstGeom prst="rect">
            <a:avLst/>
          </a:prstGeom>
          <a:noFill/>
          <a:ln w="25560">
            <a:solidFill>
              <a:srgbClr val="735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isk associated with the  solutions being off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bject 9"/>
          <p:cNvSpPr/>
          <p:nvPr/>
        </p:nvSpPr>
        <p:spPr>
          <a:xfrm>
            <a:off x="2746440" y="2733840"/>
            <a:ext cx="974520" cy="982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ject 10"/>
          <p:cNvSpPr/>
          <p:nvPr/>
        </p:nvSpPr>
        <p:spPr>
          <a:xfrm>
            <a:off x="2746440" y="2733840"/>
            <a:ext cx="974520" cy="982440"/>
          </a:xfrm>
          <a:custGeom>
            <a:avLst/>
            <a:gdLst>
              <a:gd name="textAreaLeft" fmla="*/ 0 w 974520"/>
              <a:gd name="textAreaRight" fmla="*/ 974880 w 974520"/>
              <a:gd name="textAreaTop" fmla="*/ 0 h 982440"/>
              <a:gd name="textAreaBottom" fmla="*/ 982800 h 982440"/>
            </a:gdLst>
            <a:ahLst/>
            <a:rect l="textAreaLeft" t="textAreaTop" r="textAreaRight" b="textAreaBottom"/>
            <a:pathLst>
              <a:path w="974089" h="983614">
                <a:moveTo>
                  <a:pt x="0" y="983551"/>
                </a:moveTo>
                <a:lnTo>
                  <a:pt x="973709" y="983551"/>
                </a:lnTo>
                <a:lnTo>
                  <a:pt x="973709" y="0"/>
                </a:lnTo>
                <a:lnTo>
                  <a:pt x="0" y="0"/>
                </a:lnTo>
                <a:lnTo>
                  <a:pt x="0" y="983551"/>
                </a:lnTo>
                <a:close/>
              </a:path>
            </a:pathLst>
          </a:custGeom>
          <a:noFill/>
          <a:ln w="25560">
            <a:solidFill>
              <a:srgbClr val="735a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ject 11"/>
          <p:cNvSpPr/>
          <p:nvPr/>
        </p:nvSpPr>
        <p:spPr>
          <a:xfrm>
            <a:off x="1546200" y="3878280"/>
            <a:ext cx="2174760" cy="689040"/>
          </a:xfrm>
          <a:prstGeom prst="rect">
            <a:avLst/>
          </a:prstGeom>
          <a:noFill/>
          <a:ln w="25560">
            <a:solidFill>
              <a:srgbClr val="735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nterprise performance  as compared to indu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bject 12"/>
          <p:cNvSpPr/>
          <p:nvPr/>
        </p:nvSpPr>
        <p:spPr>
          <a:xfrm>
            <a:off x="474840" y="3878280"/>
            <a:ext cx="974520" cy="984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bject 13"/>
          <p:cNvSpPr/>
          <p:nvPr/>
        </p:nvSpPr>
        <p:spPr>
          <a:xfrm>
            <a:off x="474840" y="3878280"/>
            <a:ext cx="974520" cy="984240"/>
          </a:xfrm>
          <a:custGeom>
            <a:avLst/>
            <a:gdLst>
              <a:gd name="textAreaLeft" fmla="*/ 0 w 974520"/>
              <a:gd name="textAreaRight" fmla="*/ 974880 w 97452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974090" h="983614">
                <a:moveTo>
                  <a:pt x="0" y="983551"/>
                </a:moveTo>
                <a:lnTo>
                  <a:pt x="973709" y="983551"/>
                </a:lnTo>
                <a:lnTo>
                  <a:pt x="973709" y="0"/>
                </a:lnTo>
                <a:lnTo>
                  <a:pt x="0" y="0"/>
                </a:lnTo>
                <a:lnTo>
                  <a:pt x="0" y="983551"/>
                </a:lnTo>
                <a:close/>
              </a:path>
            </a:pathLst>
          </a:custGeom>
          <a:noFill/>
          <a:ln w="25560">
            <a:solidFill>
              <a:srgbClr val="735a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bject 14"/>
          <p:cNvSpPr/>
          <p:nvPr/>
        </p:nvSpPr>
        <p:spPr>
          <a:xfrm>
            <a:off x="4149720" y="995400"/>
            <a:ext cx="360" cy="4449600"/>
          </a:xfrm>
          <a:custGeom>
            <a:avLst/>
            <a:gdLst/>
            <a:ahLst/>
            <a:rect l="l" t="t" r="r" b="b"/>
            <a:pathLst>
              <a:path w="0" h="4449445">
                <a:moveTo>
                  <a:pt x="0" y="0"/>
                </a:moveTo>
                <a:lnTo>
                  <a:pt x="0" y="4449445"/>
                </a:lnTo>
              </a:path>
            </a:pathLst>
          </a:custGeom>
          <a:noFill/>
          <a:ln w="22320">
            <a:solidFill>
              <a:srgbClr val="e36c09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bject 15"/>
          <p:cNvSpPr/>
          <p:nvPr/>
        </p:nvSpPr>
        <p:spPr>
          <a:xfrm>
            <a:off x="490680" y="1039680"/>
            <a:ext cx="7991280" cy="4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4192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f6228"/>
                </a:solidFill>
                <a:latin typeface="Arial"/>
                <a:ea typeface="Arial"/>
              </a:rPr>
              <a:t>Relevance of tool for DRE enterprises</a:t>
            </a:r>
            <a:r>
              <a:rPr b="1" lang="en-US" sz="1500" spc="-1" strike="noStrike">
                <a:solidFill>
                  <a:srgbClr val="4f6228"/>
                </a:solidFill>
                <a:latin typeface="Arial"/>
                <a:ea typeface="Arial"/>
              </a:rPr>
              <a:t>	</a:t>
            </a:r>
            <a:r>
              <a:rPr b="1" lang="en-US" sz="1500" spc="-1" strike="noStrike">
                <a:solidFill>
                  <a:srgbClr val="4f6228"/>
                </a:solidFill>
                <a:latin typeface="Arial"/>
                <a:ea typeface="Arial"/>
              </a:rPr>
              <a:t>Relevance of tool for financial institu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bject 16"/>
          <p:cNvSpPr/>
          <p:nvPr/>
        </p:nvSpPr>
        <p:spPr>
          <a:xfrm>
            <a:off x="5486400" y="1449360"/>
            <a:ext cx="3030480" cy="457560"/>
          </a:xfrm>
          <a:prstGeom prst="rect">
            <a:avLst/>
          </a:prstGeom>
          <a:noFill/>
          <a:ln w="25560">
            <a:solidFill>
              <a:srgbClr val="5646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ttractiveness of the DRE s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bject 17"/>
          <p:cNvSpPr/>
          <p:nvPr/>
        </p:nvSpPr>
        <p:spPr>
          <a:xfrm>
            <a:off x="4653000" y="1449360"/>
            <a:ext cx="720720" cy="728640"/>
          </a:xfrm>
          <a:custGeom>
            <a:avLst/>
            <a:gdLst>
              <a:gd name="textAreaLeft" fmla="*/ 0 w 720720"/>
              <a:gd name="textAreaRight" fmla="*/ 721080 w 7207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721360" h="728344">
                <a:moveTo>
                  <a:pt x="0" y="728319"/>
                </a:moveTo>
                <a:lnTo>
                  <a:pt x="721042" y="728319"/>
                </a:lnTo>
                <a:lnTo>
                  <a:pt x="721042" y="0"/>
                </a:lnTo>
                <a:lnTo>
                  <a:pt x="0" y="0"/>
                </a:lnTo>
                <a:lnTo>
                  <a:pt x="0" y="728319"/>
                </a:lnTo>
                <a:close/>
              </a:path>
            </a:pathLst>
          </a:custGeom>
          <a:noFill/>
          <a:ln w="25560">
            <a:solidFill>
              <a:srgbClr val="5646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ject 18"/>
          <p:cNvSpPr/>
          <p:nvPr/>
        </p:nvSpPr>
        <p:spPr>
          <a:xfrm>
            <a:off x="4653000" y="2276640"/>
            <a:ext cx="3006720" cy="554400"/>
          </a:xfrm>
          <a:prstGeom prst="rect">
            <a:avLst/>
          </a:prstGeom>
          <a:noFill/>
          <a:ln w="25560">
            <a:solidFill>
              <a:srgbClr val="5646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70280" bIns="0" anchor="t">
            <a:spAutoFit/>
          </a:bodyPr>
          <a:p>
            <a:pPr marL="1197000" indent="-1033560">
              <a:lnSpc>
                <a:spcPts val="1511"/>
              </a:lnSpc>
              <a:spcBef>
                <a:spcPts val="13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act created by enterprise on  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bject 19"/>
          <p:cNvSpPr/>
          <p:nvPr/>
        </p:nvSpPr>
        <p:spPr>
          <a:xfrm>
            <a:off x="7794720" y="2259000"/>
            <a:ext cx="722160" cy="728640"/>
          </a:xfrm>
          <a:custGeom>
            <a:avLst/>
            <a:gdLst>
              <a:gd name="textAreaLeft" fmla="*/ 0 w 722160"/>
              <a:gd name="textAreaRight" fmla="*/ 722520 w 72216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721359" h="728344">
                <a:moveTo>
                  <a:pt x="0" y="728319"/>
                </a:moveTo>
                <a:lnTo>
                  <a:pt x="721042" y="728319"/>
                </a:lnTo>
                <a:lnTo>
                  <a:pt x="721042" y="0"/>
                </a:lnTo>
                <a:lnTo>
                  <a:pt x="0" y="0"/>
                </a:lnTo>
                <a:lnTo>
                  <a:pt x="0" y="728319"/>
                </a:lnTo>
                <a:close/>
              </a:path>
            </a:pathLst>
          </a:custGeom>
          <a:noFill/>
          <a:ln w="25560">
            <a:solidFill>
              <a:srgbClr val="5646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bject 20"/>
          <p:cNvSpPr/>
          <p:nvPr/>
        </p:nvSpPr>
        <p:spPr>
          <a:xfrm>
            <a:off x="5486400" y="3098880"/>
            <a:ext cx="3030480" cy="554400"/>
          </a:xfrm>
          <a:prstGeom prst="rect">
            <a:avLst/>
          </a:prstGeom>
          <a:noFill/>
          <a:ln w="25560">
            <a:solidFill>
              <a:srgbClr val="5646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70280" bIns="0" anchor="t">
            <a:spAutoFit/>
          </a:bodyPr>
          <a:p>
            <a:pPr marL="936720" indent="-789120">
              <a:lnSpc>
                <a:spcPts val="1511"/>
              </a:lnSpc>
              <a:spcBef>
                <a:spcPts val="13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associated with technology  and sol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bject 21"/>
          <p:cNvSpPr/>
          <p:nvPr/>
        </p:nvSpPr>
        <p:spPr>
          <a:xfrm>
            <a:off x="4653000" y="3117960"/>
            <a:ext cx="720720" cy="728640"/>
          </a:xfrm>
          <a:custGeom>
            <a:avLst/>
            <a:gdLst>
              <a:gd name="textAreaLeft" fmla="*/ 0 w 720720"/>
              <a:gd name="textAreaRight" fmla="*/ 721080 w 7207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721360" h="728345">
                <a:moveTo>
                  <a:pt x="0" y="728319"/>
                </a:moveTo>
                <a:lnTo>
                  <a:pt x="721042" y="728319"/>
                </a:lnTo>
                <a:lnTo>
                  <a:pt x="721042" y="0"/>
                </a:lnTo>
                <a:lnTo>
                  <a:pt x="0" y="0"/>
                </a:lnTo>
                <a:lnTo>
                  <a:pt x="0" y="728319"/>
                </a:lnTo>
                <a:close/>
              </a:path>
            </a:pathLst>
          </a:custGeom>
          <a:noFill/>
          <a:ln w="25560">
            <a:solidFill>
              <a:srgbClr val="5646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bject 22"/>
          <p:cNvSpPr/>
          <p:nvPr/>
        </p:nvSpPr>
        <p:spPr>
          <a:xfrm>
            <a:off x="4653000" y="3935520"/>
            <a:ext cx="3006720" cy="650160"/>
          </a:xfrm>
          <a:prstGeom prst="rect">
            <a:avLst/>
          </a:prstGeom>
          <a:noFill/>
          <a:ln w="25560">
            <a:solidFill>
              <a:srgbClr val="5646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4160" bIns="0" anchor="t">
            <a:spAutoFit/>
          </a:bodyPr>
          <a:p>
            <a:pPr marL="123840" algn="ctr">
              <a:lnSpc>
                <a:spcPts val="1511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arison of actual versus  planned performance in terms of  growth and profi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ject 23"/>
          <p:cNvSpPr/>
          <p:nvPr/>
        </p:nvSpPr>
        <p:spPr>
          <a:xfrm>
            <a:off x="5486400" y="4781520"/>
            <a:ext cx="3030480" cy="554400"/>
          </a:xfrm>
          <a:prstGeom prst="rect">
            <a:avLst/>
          </a:prstGeom>
          <a:noFill/>
          <a:ln w="25560">
            <a:solidFill>
              <a:srgbClr val="5646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70280" bIns="0" anchor="t">
            <a:spAutoFit/>
          </a:bodyPr>
          <a:p>
            <a:pPr marL="1046160" indent="-598320">
              <a:lnSpc>
                <a:spcPts val="1511"/>
              </a:lnSpc>
              <a:spcBef>
                <a:spcPts val="133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tential geographies for  inves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ject 24"/>
          <p:cNvSpPr/>
          <p:nvPr/>
        </p:nvSpPr>
        <p:spPr>
          <a:xfrm>
            <a:off x="4668840" y="4781520"/>
            <a:ext cx="720720" cy="728640"/>
          </a:xfrm>
          <a:custGeom>
            <a:avLst/>
            <a:gdLst>
              <a:gd name="textAreaLeft" fmla="*/ 0 w 720720"/>
              <a:gd name="textAreaRight" fmla="*/ 721080 w 7207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721360" h="728345">
                <a:moveTo>
                  <a:pt x="0" y="728319"/>
                </a:moveTo>
                <a:lnTo>
                  <a:pt x="721042" y="728319"/>
                </a:lnTo>
                <a:lnTo>
                  <a:pt x="721042" y="0"/>
                </a:lnTo>
                <a:lnTo>
                  <a:pt x="0" y="0"/>
                </a:lnTo>
                <a:lnTo>
                  <a:pt x="0" y="728319"/>
                </a:lnTo>
                <a:close/>
              </a:path>
            </a:pathLst>
          </a:custGeom>
          <a:noFill/>
          <a:ln w="25560">
            <a:solidFill>
              <a:srgbClr val="5646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ject 25"/>
          <p:cNvSpPr/>
          <p:nvPr/>
        </p:nvSpPr>
        <p:spPr>
          <a:xfrm>
            <a:off x="7808760" y="2319480"/>
            <a:ext cx="696960" cy="6141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ject 26"/>
          <p:cNvSpPr/>
          <p:nvPr/>
        </p:nvSpPr>
        <p:spPr>
          <a:xfrm>
            <a:off x="7781760" y="3922560"/>
            <a:ext cx="747720" cy="754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bject 27"/>
          <p:cNvSpPr/>
          <p:nvPr/>
        </p:nvSpPr>
        <p:spPr>
          <a:xfrm>
            <a:off x="4749840" y="3205080"/>
            <a:ext cx="527040" cy="5270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ject 28"/>
          <p:cNvSpPr/>
          <p:nvPr/>
        </p:nvSpPr>
        <p:spPr>
          <a:xfrm>
            <a:off x="4681440" y="1477800"/>
            <a:ext cx="669960" cy="6699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ject 29"/>
          <p:cNvSpPr/>
          <p:nvPr/>
        </p:nvSpPr>
        <p:spPr>
          <a:xfrm>
            <a:off x="4705200" y="4826160"/>
            <a:ext cx="633600" cy="6332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bject 30"/>
          <p:cNvSpPr/>
          <p:nvPr/>
        </p:nvSpPr>
        <p:spPr>
          <a:xfrm>
            <a:off x="519120" y="1633680"/>
            <a:ext cx="885960" cy="8874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128"/>
          <p:cNvSpPr/>
          <p:nvPr/>
        </p:nvSpPr>
        <p:spPr>
          <a:xfrm>
            <a:off x="60480" y="154080"/>
            <a:ext cx="8961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www.dreemtool.com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E95F-9DB8-4DE1-BF6A-FCB4374B9687}" type="slidenum">
              <a:rPr b="0" lang="uk-UA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bject 7"/>
          <p:cNvSpPr/>
          <p:nvPr/>
        </p:nvSpPr>
        <p:spPr>
          <a:xfrm>
            <a:off x="173160" y="765000"/>
            <a:ext cx="3971880" cy="2549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bject 7"/>
          <p:cNvSpPr/>
          <p:nvPr/>
        </p:nvSpPr>
        <p:spPr>
          <a:xfrm>
            <a:off x="4892760" y="801720"/>
            <a:ext cx="3730680" cy="2487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2"/>
          <p:cNvGrpSpPr/>
          <p:nvPr/>
        </p:nvGrpSpPr>
        <p:grpSpPr>
          <a:xfrm>
            <a:off x="160200" y="3637080"/>
            <a:ext cx="4077000" cy="2913120"/>
            <a:chOff x="160200" y="3637080"/>
            <a:chExt cx="4077000" cy="2913120"/>
          </a:xfrm>
        </p:grpSpPr>
        <p:sp>
          <p:nvSpPr>
            <p:cNvPr id="146" name="object 5"/>
            <p:cNvSpPr/>
            <p:nvPr/>
          </p:nvSpPr>
          <p:spPr>
            <a:xfrm>
              <a:off x="160200" y="3637080"/>
              <a:ext cx="4070160" cy="1524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bject 6"/>
            <p:cNvSpPr/>
            <p:nvPr/>
          </p:nvSpPr>
          <p:spPr>
            <a:xfrm>
              <a:off x="160200" y="5149080"/>
              <a:ext cx="4077000" cy="14011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object 7"/>
          <p:cNvSpPr/>
          <p:nvPr/>
        </p:nvSpPr>
        <p:spPr>
          <a:xfrm>
            <a:off x="4745160" y="3625920"/>
            <a:ext cx="3930480" cy="2897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1609920" y="3341520"/>
            <a:ext cx="91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Log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4595760" y="3281400"/>
            <a:ext cx="43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Basic details and choose assessment op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1101960" y="6550200"/>
            <a:ext cx="168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Specific 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5"/>
          <p:cNvSpPr/>
          <p:nvPr/>
        </p:nvSpPr>
        <p:spPr>
          <a:xfrm>
            <a:off x="5097600" y="6550200"/>
            <a:ext cx="350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Risk/Attractiveness report gene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bject 2"/>
          <p:cNvSpPr/>
          <p:nvPr/>
        </p:nvSpPr>
        <p:spPr>
          <a:xfrm>
            <a:off x="457200" y="6273720"/>
            <a:ext cx="8305920" cy="360"/>
          </a:xfrm>
          <a:custGeom>
            <a:avLst/>
            <a:gdLst/>
            <a:ahLst/>
            <a:rect l="l" t="t" r="r" b="b"/>
            <a:pathLst>
              <a:path w="8305800" h="0">
                <a:moveTo>
                  <a:pt x="0" y="0"/>
                </a:moveTo>
                <a:lnTo>
                  <a:pt x="8305800" y="0"/>
                </a:lnTo>
              </a:path>
            </a:pathLst>
          </a:custGeom>
          <a:noFill/>
          <a:ln w="9360">
            <a:solidFill>
              <a:srgbClr val="ef6f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ject 3"/>
          <p:cNvSpPr/>
          <p:nvPr/>
        </p:nvSpPr>
        <p:spPr>
          <a:xfrm>
            <a:off x="277920" y="914400"/>
            <a:ext cx="8610480" cy="360"/>
          </a:xfrm>
          <a:custGeom>
            <a:avLst/>
            <a:gdLst/>
            <a:ahLst/>
            <a:rect l="l" t="t" r="r" b="b"/>
            <a:pathLst>
              <a:path w="8610600" h="0">
                <a:moveTo>
                  <a:pt x="0" y="0"/>
                </a:moveTo>
                <a:lnTo>
                  <a:pt x="8610587" y="0"/>
                </a:lnTo>
              </a:path>
            </a:pathLst>
          </a:custGeom>
          <a:noFill/>
          <a:ln w="9360">
            <a:solidFill>
              <a:srgbClr val="ef6f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9840"/>
            <a:ext cx="6710400" cy="574920"/>
          </a:xfrm>
          <a:prstGeom prst="rect">
            <a:avLst/>
          </a:prstGeom>
          <a:noFill/>
          <a:ln w="0">
            <a:noFill/>
          </a:ln>
        </p:spPr>
        <p:txBody>
          <a:bodyPr tIns="12600" bIns="91440" anchor="ctr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  <a:ea typeface="Calibri"/>
              </a:rPr>
              <a:t>The “Comparison” section allows users to evaluate performance against the industry benchmark as well as target perform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ject 5"/>
          <p:cNvSpPr/>
          <p:nvPr/>
        </p:nvSpPr>
        <p:spPr>
          <a:xfrm>
            <a:off x="5554800" y="1146240"/>
            <a:ext cx="360" cy="4849920"/>
          </a:xfrm>
          <a:custGeom>
            <a:avLst/>
            <a:gdLst/>
            <a:ahLst/>
            <a:rect l="l" t="t" r="r" b="b"/>
            <a:pathLst>
              <a:path w="0" h="4849495">
                <a:moveTo>
                  <a:pt x="0" y="0"/>
                </a:moveTo>
                <a:lnTo>
                  <a:pt x="0" y="4849380"/>
                </a:lnTo>
              </a:path>
            </a:pathLst>
          </a:custGeom>
          <a:noFill/>
          <a:ln w="22320">
            <a:solidFill>
              <a:srgbClr val="f9c09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ject 6"/>
          <p:cNvSpPr/>
          <p:nvPr/>
        </p:nvSpPr>
        <p:spPr>
          <a:xfrm>
            <a:off x="5857920" y="1676520"/>
            <a:ext cx="1919160" cy="942840"/>
          </a:xfrm>
          <a:custGeom>
            <a:avLst/>
            <a:gdLst>
              <a:gd name="textAreaLeft" fmla="*/ 0 w 1919160"/>
              <a:gd name="textAreaRight" fmla="*/ 1919520 w 191916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1920240" h="942339">
                <a:moveTo>
                  <a:pt x="1826133" y="0"/>
                </a:moveTo>
                <a:lnTo>
                  <a:pt x="94234" y="0"/>
                </a:lnTo>
                <a:lnTo>
                  <a:pt x="57542" y="7401"/>
                </a:lnTo>
                <a:lnTo>
                  <a:pt x="27590" y="27590"/>
                </a:lnTo>
                <a:lnTo>
                  <a:pt x="7401" y="57542"/>
                </a:lnTo>
                <a:lnTo>
                  <a:pt x="0" y="94234"/>
                </a:lnTo>
                <a:lnTo>
                  <a:pt x="0" y="847725"/>
                </a:lnTo>
                <a:lnTo>
                  <a:pt x="7401" y="884342"/>
                </a:lnTo>
                <a:lnTo>
                  <a:pt x="27590" y="914257"/>
                </a:lnTo>
                <a:lnTo>
                  <a:pt x="57542" y="934432"/>
                </a:lnTo>
                <a:lnTo>
                  <a:pt x="94234" y="941831"/>
                </a:lnTo>
                <a:lnTo>
                  <a:pt x="1826133" y="941831"/>
                </a:lnTo>
                <a:lnTo>
                  <a:pt x="1862750" y="934432"/>
                </a:lnTo>
                <a:lnTo>
                  <a:pt x="1892665" y="914257"/>
                </a:lnTo>
                <a:lnTo>
                  <a:pt x="1912840" y="884342"/>
                </a:lnTo>
                <a:lnTo>
                  <a:pt x="1920239" y="847725"/>
                </a:lnTo>
                <a:lnTo>
                  <a:pt x="1920239" y="94234"/>
                </a:lnTo>
                <a:lnTo>
                  <a:pt x="1912840" y="57542"/>
                </a:lnTo>
                <a:lnTo>
                  <a:pt x="1892665" y="27590"/>
                </a:lnTo>
                <a:lnTo>
                  <a:pt x="1862750" y="7401"/>
                </a:lnTo>
                <a:lnTo>
                  <a:pt x="1826133" y="0"/>
                </a:lnTo>
                <a:close/>
              </a:path>
            </a:pathLst>
          </a:custGeom>
          <a:solidFill>
            <a:srgbClr val="585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ject 7"/>
          <p:cNvSpPr/>
          <p:nvPr/>
        </p:nvSpPr>
        <p:spPr>
          <a:xfrm>
            <a:off x="5921280" y="1819440"/>
            <a:ext cx="18115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4200" bIns="0" anchor="t">
            <a:spAutoFit/>
          </a:bodyPr>
          <a:p>
            <a:pPr marL="12600" indent="3240"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ownload industry  benchmarks for further 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ject 8"/>
          <p:cNvSpPr/>
          <p:nvPr/>
        </p:nvSpPr>
        <p:spPr>
          <a:xfrm>
            <a:off x="5857920" y="2816280"/>
            <a:ext cx="1919160" cy="942840"/>
          </a:xfrm>
          <a:custGeom>
            <a:avLst/>
            <a:gdLst>
              <a:gd name="textAreaLeft" fmla="*/ 0 w 1919160"/>
              <a:gd name="textAreaRight" fmla="*/ 1919520 w 191916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1920240" h="942339">
                <a:moveTo>
                  <a:pt x="1826133" y="0"/>
                </a:moveTo>
                <a:lnTo>
                  <a:pt x="94234" y="0"/>
                </a:lnTo>
                <a:lnTo>
                  <a:pt x="57542" y="7401"/>
                </a:lnTo>
                <a:lnTo>
                  <a:pt x="27590" y="27590"/>
                </a:lnTo>
                <a:lnTo>
                  <a:pt x="7401" y="57542"/>
                </a:lnTo>
                <a:lnTo>
                  <a:pt x="0" y="94234"/>
                </a:lnTo>
                <a:lnTo>
                  <a:pt x="0" y="847725"/>
                </a:lnTo>
                <a:lnTo>
                  <a:pt x="7401" y="884342"/>
                </a:lnTo>
                <a:lnTo>
                  <a:pt x="27590" y="914257"/>
                </a:lnTo>
                <a:lnTo>
                  <a:pt x="57542" y="934432"/>
                </a:lnTo>
                <a:lnTo>
                  <a:pt x="94234" y="941832"/>
                </a:lnTo>
                <a:lnTo>
                  <a:pt x="1826133" y="941832"/>
                </a:lnTo>
                <a:lnTo>
                  <a:pt x="1862750" y="934432"/>
                </a:lnTo>
                <a:lnTo>
                  <a:pt x="1892665" y="914257"/>
                </a:lnTo>
                <a:lnTo>
                  <a:pt x="1912840" y="884342"/>
                </a:lnTo>
                <a:lnTo>
                  <a:pt x="1920239" y="847725"/>
                </a:lnTo>
                <a:lnTo>
                  <a:pt x="1920239" y="94234"/>
                </a:lnTo>
                <a:lnTo>
                  <a:pt x="1912840" y="57542"/>
                </a:lnTo>
                <a:lnTo>
                  <a:pt x="1892665" y="27590"/>
                </a:lnTo>
                <a:lnTo>
                  <a:pt x="1862750" y="7401"/>
                </a:lnTo>
                <a:lnTo>
                  <a:pt x="1826133" y="0"/>
                </a:lnTo>
                <a:close/>
              </a:path>
            </a:pathLst>
          </a:custGeom>
          <a:solidFill>
            <a:srgbClr val="585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ject 9"/>
          <p:cNvSpPr/>
          <p:nvPr/>
        </p:nvSpPr>
        <p:spPr>
          <a:xfrm>
            <a:off x="6016680" y="3056040"/>
            <a:ext cx="16207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546120" indent="-53496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ew geography risk  sc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ject 10"/>
          <p:cNvSpPr/>
          <p:nvPr/>
        </p:nvSpPr>
        <p:spPr>
          <a:xfrm>
            <a:off x="5857920" y="4013280"/>
            <a:ext cx="1919160" cy="941400"/>
          </a:xfrm>
          <a:custGeom>
            <a:avLst/>
            <a:gdLst>
              <a:gd name="textAreaLeft" fmla="*/ 0 w 1919160"/>
              <a:gd name="textAreaRight" fmla="*/ 1919520 w 191916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1920240" h="942339">
                <a:moveTo>
                  <a:pt x="1826133" y="0"/>
                </a:moveTo>
                <a:lnTo>
                  <a:pt x="94234" y="0"/>
                </a:lnTo>
                <a:lnTo>
                  <a:pt x="57542" y="7399"/>
                </a:lnTo>
                <a:lnTo>
                  <a:pt x="27590" y="27574"/>
                </a:lnTo>
                <a:lnTo>
                  <a:pt x="7401" y="57489"/>
                </a:lnTo>
                <a:lnTo>
                  <a:pt x="0" y="94106"/>
                </a:lnTo>
                <a:lnTo>
                  <a:pt x="0" y="847597"/>
                </a:lnTo>
                <a:lnTo>
                  <a:pt x="7401" y="884289"/>
                </a:lnTo>
                <a:lnTo>
                  <a:pt x="27590" y="914241"/>
                </a:lnTo>
                <a:lnTo>
                  <a:pt x="57542" y="934430"/>
                </a:lnTo>
                <a:lnTo>
                  <a:pt x="94234" y="941831"/>
                </a:lnTo>
                <a:lnTo>
                  <a:pt x="1826133" y="941831"/>
                </a:lnTo>
                <a:lnTo>
                  <a:pt x="1862750" y="934430"/>
                </a:lnTo>
                <a:lnTo>
                  <a:pt x="1892665" y="914241"/>
                </a:lnTo>
                <a:lnTo>
                  <a:pt x="1912840" y="884289"/>
                </a:lnTo>
                <a:lnTo>
                  <a:pt x="1920239" y="847597"/>
                </a:lnTo>
                <a:lnTo>
                  <a:pt x="1920239" y="94106"/>
                </a:lnTo>
                <a:lnTo>
                  <a:pt x="1912840" y="57489"/>
                </a:lnTo>
                <a:lnTo>
                  <a:pt x="1892665" y="27574"/>
                </a:lnTo>
                <a:lnTo>
                  <a:pt x="1862750" y="7399"/>
                </a:lnTo>
                <a:lnTo>
                  <a:pt x="1826133" y="0"/>
                </a:lnTo>
                <a:close/>
              </a:path>
            </a:pathLst>
          </a:custGeom>
          <a:solidFill>
            <a:srgbClr val="585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ject 11"/>
          <p:cNvSpPr/>
          <p:nvPr/>
        </p:nvSpPr>
        <p:spPr>
          <a:xfrm>
            <a:off x="5991120" y="4060800"/>
            <a:ext cx="16750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7440" bIns="0" anchor="t">
            <a:spAutoFit/>
          </a:bodyPr>
          <a:p>
            <a:pPr marL="11160" algn="ctr">
              <a:lnSpc>
                <a:spcPts val="1511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ew regional  performance of  technologies (energy  sour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ject 12"/>
          <p:cNvSpPr/>
          <p:nvPr/>
        </p:nvSpPr>
        <p:spPr>
          <a:xfrm>
            <a:off x="6656400" y="2541600"/>
            <a:ext cx="274680" cy="366840"/>
          </a:xfrm>
          <a:custGeom>
            <a:avLst/>
            <a:gdLst>
              <a:gd name="textAreaLeft" fmla="*/ 0 w 274680"/>
              <a:gd name="textAreaRight" fmla="*/ 275040 w 27468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274320" h="365760">
                <a:moveTo>
                  <a:pt x="274320" y="242315"/>
                </a:moveTo>
                <a:lnTo>
                  <a:pt x="0" y="242315"/>
                </a:lnTo>
                <a:lnTo>
                  <a:pt x="137159" y="365760"/>
                </a:lnTo>
                <a:lnTo>
                  <a:pt x="274320" y="242315"/>
                </a:lnTo>
                <a:close/>
              </a:path>
              <a:path w="274320" h="365760">
                <a:moveTo>
                  <a:pt x="212598" y="0"/>
                </a:moveTo>
                <a:lnTo>
                  <a:pt x="61722" y="0"/>
                </a:lnTo>
                <a:lnTo>
                  <a:pt x="61722" y="242315"/>
                </a:lnTo>
                <a:lnTo>
                  <a:pt x="212598" y="242315"/>
                </a:lnTo>
                <a:lnTo>
                  <a:pt x="212598" y="0"/>
                </a:lnTo>
                <a:close/>
              </a:path>
            </a:pathLst>
          </a:custGeom>
          <a:solidFill>
            <a:srgbClr val="ef6f2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ject 13"/>
          <p:cNvSpPr/>
          <p:nvPr/>
        </p:nvSpPr>
        <p:spPr>
          <a:xfrm>
            <a:off x="6656400" y="3676680"/>
            <a:ext cx="274680" cy="365040"/>
          </a:xfrm>
          <a:custGeom>
            <a:avLst/>
            <a:gdLst>
              <a:gd name="textAreaLeft" fmla="*/ 0 w 274680"/>
              <a:gd name="textAreaRight" fmla="*/ 275040 w 274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74320" h="365760">
                <a:moveTo>
                  <a:pt x="274320" y="242315"/>
                </a:moveTo>
                <a:lnTo>
                  <a:pt x="0" y="242315"/>
                </a:lnTo>
                <a:lnTo>
                  <a:pt x="137159" y="365759"/>
                </a:lnTo>
                <a:lnTo>
                  <a:pt x="274320" y="242315"/>
                </a:lnTo>
                <a:close/>
              </a:path>
              <a:path w="274320" h="365760">
                <a:moveTo>
                  <a:pt x="212598" y="0"/>
                </a:moveTo>
                <a:lnTo>
                  <a:pt x="61722" y="0"/>
                </a:lnTo>
                <a:lnTo>
                  <a:pt x="61722" y="242315"/>
                </a:lnTo>
                <a:lnTo>
                  <a:pt x="212598" y="242315"/>
                </a:lnTo>
                <a:lnTo>
                  <a:pt x="212598" y="0"/>
                </a:lnTo>
                <a:close/>
              </a:path>
            </a:pathLst>
          </a:custGeom>
          <a:solidFill>
            <a:srgbClr val="ef6f2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bject 14"/>
          <p:cNvSpPr/>
          <p:nvPr/>
        </p:nvSpPr>
        <p:spPr>
          <a:xfrm>
            <a:off x="190440" y="996840"/>
            <a:ext cx="5186520" cy="846360"/>
          </a:xfrm>
          <a:custGeom>
            <a:avLst/>
            <a:gdLst>
              <a:gd name="textAreaLeft" fmla="*/ 0 w 5186520"/>
              <a:gd name="textAreaRight" fmla="*/ 5186880 w 518652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5186680" h="845819">
                <a:moveTo>
                  <a:pt x="5045748" y="0"/>
                </a:moveTo>
                <a:lnTo>
                  <a:pt x="140893" y="0"/>
                </a:lnTo>
                <a:lnTo>
                  <a:pt x="96360" y="7187"/>
                </a:lnTo>
                <a:lnTo>
                  <a:pt x="57684" y="27200"/>
                </a:lnTo>
                <a:lnTo>
                  <a:pt x="27184" y="57716"/>
                </a:lnTo>
                <a:lnTo>
                  <a:pt x="7182" y="96414"/>
                </a:lnTo>
                <a:lnTo>
                  <a:pt x="0" y="140970"/>
                </a:lnTo>
                <a:lnTo>
                  <a:pt x="0" y="704469"/>
                </a:lnTo>
                <a:lnTo>
                  <a:pt x="7182" y="749011"/>
                </a:lnTo>
                <a:lnTo>
                  <a:pt x="27184" y="787677"/>
                </a:lnTo>
                <a:lnTo>
                  <a:pt x="57684" y="818156"/>
                </a:lnTo>
                <a:lnTo>
                  <a:pt x="96360" y="838138"/>
                </a:lnTo>
                <a:lnTo>
                  <a:pt x="140893" y="845312"/>
                </a:lnTo>
                <a:lnTo>
                  <a:pt x="5045748" y="845312"/>
                </a:lnTo>
                <a:lnTo>
                  <a:pt x="5090290" y="838138"/>
                </a:lnTo>
                <a:lnTo>
                  <a:pt x="5128956" y="818156"/>
                </a:lnTo>
                <a:lnTo>
                  <a:pt x="5159435" y="787677"/>
                </a:lnTo>
                <a:lnTo>
                  <a:pt x="5179417" y="749011"/>
                </a:lnTo>
                <a:lnTo>
                  <a:pt x="5186591" y="704469"/>
                </a:lnTo>
                <a:lnTo>
                  <a:pt x="5186591" y="140970"/>
                </a:lnTo>
                <a:lnTo>
                  <a:pt x="5179417" y="96414"/>
                </a:lnTo>
                <a:lnTo>
                  <a:pt x="5159435" y="57716"/>
                </a:lnTo>
                <a:lnTo>
                  <a:pt x="5128956" y="27200"/>
                </a:lnTo>
                <a:lnTo>
                  <a:pt x="5090290" y="7187"/>
                </a:lnTo>
                <a:lnTo>
                  <a:pt x="5045748" y="0"/>
                </a:lnTo>
                <a:close/>
              </a:path>
            </a:pathLst>
          </a:custGeom>
          <a:solidFill>
            <a:srgbClr val="585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bject 15"/>
          <p:cNvSpPr/>
          <p:nvPr/>
        </p:nvSpPr>
        <p:spPr>
          <a:xfrm>
            <a:off x="355680" y="1019160"/>
            <a:ext cx="48578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2600" algn="ctr">
              <a:lnSpc>
                <a:spcPct val="114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REEM allows users to track enterprise performance vis-  à-vis the projected numbers as well as industry  benchm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ject 16"/>
          <p:cNvSpPr/>
          <p:nvPr/>
        </p:nvSpPr>
        <p:spPr>
          <a:xfrm>
            <a:off x="204840" y="1706400"/>
            <a:ext cx="5065560" cy="3724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bject 17"/>
          <p:cNvSpPr/>
          <p:nvPr/>
        </p:nvSpPr>
        <p:spPr>
          <a:xfrm>
            <a:off x="190440" y="5581800"/>
            <a:ext cx="5200560" cy="501480"/>
          </a:xfrm>
          <a:prstGeom prst="rect">
            <a:avLst/>
          </a:prstGeom>
          <a:noFill/>
          <a:ln w="25560">
            <a:solidFill>
              <a:srgbClr val="5646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spAutoFit/>
          </a:bodyPr>
          <a:p>
            <a:pPr marL="90360">
              <a:lnSpc>
                <a:spcPct val="114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6469e"/>
                </a:solidFill>
                <a:latin typeface="Arial"/>
              </a:rPr>
              <a:t>Additionally, the tool allows financial institutions to  compare performance of two DRE enterpri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bject 18"/>
          <p:cNvSpPr/>
          <p:nvPr/>
        </p:nvSpPr>
        <p:spPr>
          <a:xfrm>
            <a:off x="5857920" y="5202360"/>
            <a:ext cx="1919160" cy="942840"/>
          </a:xfrm>
          <a:custGeom>
            <a:avLst/>
            <a:gdLst>
              <a:gd name="textAreaLeft" fmla="*/ 0 w 1919160"/>
              <a:gd name="textAreaRight" fmla="*/ 1919520 w 191916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1920240" h="942339">
                <a:moveTo>
                  <a:pt x="1826133" y="0"/>
                </a:moveTo>
                <a:lnTo>
                  <a:pt x="94234" y="0"/>
                </a:lnTo>
                <a:lnTo>
                  <a:pt x="57542" y="7401"/>
                </a:lnTo>
                <a:lnTo>
                  <a:pt x="27590" y="27590"/>
                </a:lnTo>
                <a:lnTo>
                  <a:pt x="7401" y="57542"/>
                </a:lnTo>
                <a:lnTo>
                  <a:pt x="0" y="94234"/>
                </a:lnTo>
                <a:lnTo>
                  <a:pt x="0" y="847661"/>
                </a:lnTo>
                <a:lnTo>
                  <a:pt x="7401" y="884323"/>
                </a:lnTo>
                <a:lnTo>
                  <a:pt x="27590" y="914260"/>
                </a:lnTo>
                <a:lnTo>
                  <a:pt x="57542" y="934443"/>
                </a:lnTo>
                <a:lnTo>
                  <a:pt x="94234" y="941844"/>
                </a:lnTo>
                <a:lnTo>
                  <a:pt x="1826133" y="941844"/>
                </a:lnTo>
                <a:lnTo>
                  <a:pt x="1862750" y="934443"/>
                </a:lnTo>
                <a:lnTo>
                  <a:pt x="1892665" y="914260"/>
                </a:lnTo>
                <a:lnTo>
                  <a:pt x="1912840" y="884323"/>
                </a:lnTo>
                <a:lnTo>
                  <a:pt x="1920239" y="847661"/>
                </a:lnTo>
                <a:lnTo>
                  <a:pt x="1920239" y="94234"/>
                </a:lnTo>
                <a:lnTo>
                  <a:pt x="1912840" y="57542"/>
                </a:lnTo>
                <a:lnTo>
                  <a:pt x="1892665" y="27590"/>
                </a:lnTo>
                <a:lnTo>
                  <a:pt x="1862750" y="7401"/>
                </a:lnTo>
                <a:lnTo>
                  <a:pt x="1826133" y="0"/>
                </a:lnTo>
                <a:close/>
              </a:path>
            </a:pathLst>
          </a:custGeom>
          <a:solidFill>
            <a:srgbClr val="585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bject 19"/>
          <p:cNvSpPr/>
          <p:nvPr/>
        </p:nvSpPr>
        <p:spPr>
          <a:xfrm>
            <a:off x="6049800" y="5346720"/>
            <a:ext cx="15573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7440" bIns="0" anchor="t">
            <a:spAutoFit/>
          </a:bodyPr>
          <a:p>
            <a:pPr marL="11160" algn="ctr">
              <a:lnSpc>
                <a:spcPts val="1511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ew regional  performance of  solutions /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ject 20"/>
          <p:cNvSpPr/>
          <p:nvPr/>
        </p:nvSpPr>
        <p:spPr>
          <a:xfrm>
            <a:off x="6656400" y="4892760"/>
            <a:ext cx="274680" cy="366480"/>
          </a:xfrm>
          <a:custGeom>
            <a:avLst/>
            <a:gdLst>
              <a:gd name="textAreaLeft" fmla="*/ 0 w 274680"/>
              <a:gd name="textAreaRight" fmla="*/ 275040 w 27468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74320" h="365760">
                <a:moveTo>
                  <a:pt x="274320" y="242316"/>
                </a:moveTo>
                <a:lnTo>
                  <a:pt x="0" y="242316"/>
                </a:lnTo>
                <a:lnTo>
                  <a:pt x="137159" y="365760"/>
                </a:lnTo>
                <a:lnTo>
                  <a:pt x="274320" y="242316"/>
                </a:lnTo>
                <a:close/>
              </a:path>
              <a:path w="274320" h="365760">
                <a:moveTo>
                  <a:pt x="212598" y="0"/>
                </a:moveTo>
                <a:lnTo>
                  <a:pt x="61722" y="0"/>
                </a:lnTo>
                <a:lnTo>
                  <a:pt x="61722" y="242316"/>
                </a:lnTo>
                <a:lnTo>
                  <a:pt x="212598" y="242316"/>
                </a:lnTo>
                <a:lnTo>
                  <a:pt x="212598" y="0"/>
                </a:lnTo>
                <a:close/>
              </a:path>
            </a:pathLst>
          </a:custGeom>
          <a:solidFill>
            <a:srgbClr val="ef6f24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ject 21"/>
          <p:cNvSpPr/>
          <p:nvPr/>
        </p:nvSpPr>
        <p:spPr>
          <a:xfrm>
            <a:off x="7677000" y="2735280"/>
            <a:ext cx="406440" cy="3478320"/>
          </a:xfrm>
          <a:custGeom>
            <a:avLst/>
            <a:gdLst>
              <a:gd name="textAreaLeft" fmla="*/ 0 w 406440"/>
              <a:gd name="textAreaRight" fmla="*/ 406800 w 406440"/>
              <a:gd name="textAreaTop" fmla="*/ 0 h 3478320"/>
              <a:gd name="textAreaBottom" fmla="*/ 3478680 h 3478320"/>
            </a:gdLst>
            <a:ahLst/>
            <a:rect l="textAreaLeft" t="textAreaTop" r="textAreaRight" b="textAreaBottom"/>
            <a:pathLst>
              <a:path w="405765" h="3478529">
                <a:moveTo>
                  <a:pt x="0" y="0"/>
                </a:moveTo>
                <a:lnTo>
                  <a:pt x="78946" y="2653"/>
                </a:lnTo>
                <a:lnTo>
                  <a:pt x="143414" y="9890"/>
                </a:lnTo>
                <a:lnTo>
                  <a:pt x="186880" y="20627"/>
                </a:lnTo>
                <a:lnTo>
                  <a:pt x="202819" y="33782"/>
                </a:lnTo>
                <a:lnTo>
                  <a:pt x="202819" y="1705356"/>
                </a:lnTo>
                <a:lnTo>
                  <a:pt x="218737" y="1718510"/>
                </a:lnTo>
                <a:lnTo>
                  <a:pt x="262159" y="1729247"/>
                </a:lnTo>
                <a:lnTo>
                  <a:pt x="326584" y="1736484"/>
                </a:lnTo>
                <a:lnTo>
                  <a:pt x="405511" y="1739138"/>
                </a:lnTo>
                <a:lnTo>
                  <a:pt x="326584" y="1741810"/>
                </a:lnTo>
                <a:lnTo>
                  <a:pt x="262159" y="1749091"/>
                </a:lnTo>
                <a:lnTo>
                  <a:pt x="218737" y="1759872"/>
                </a:lnTo>
                <a:lnTo>
                  <a:pt x="202819" y="1773047"/>
                </a:lnTo>
                <a:lnTo>
                  <a:pt x="202819" y="3444544"/>
                </a:lnTo>
                <a:lnTo>
                  <a:pt x="186880" y="3457701"/>
                </a:lnTo>
                <a:lnTo>
                  <a:pt x="143414" y="3468443"/>
                </a:lnTo>
                <a:lnTo>
                  <a:pt x="78946" y="3475684"/>
                </a:lnTo>
                <a:lnTo>
                  <a:pt x="0" y="3478339"/>
                </a:lnTo>
              </a:path>
            </a:pathLst>
          </a:custGeom>
          <a:noFill/>
          <a:ln w="93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ject 22"/>
          <p:cNvSpPr/>
          <p:nvPr/>
        </p:nvSpPr>
        <p:spPr>
          <a:xfrm>
            <a:off x="8231040" y="3760920"/>
            <a:ext cx="763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isit the  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nalytics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section of  the  website for  related 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bject 23"/>
          <p:cNvSpPr/>
          <p:nvPr/>
        </p:nvSpPr>
        <p:spPr>
          <a:xfrm>
            <a:off x="7974000" y="1760400"/>
            <a:ext cx="8460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an be  downloaded  from user  dash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bject 24"/>
          <p:cNvSpPr/>
          <p:nvPr/>
        </p:nvSpPr>
        <p:spPr>
          <a:xfrm>
            <a:off x="5857920" y="996840"/>
            <a:ext cx="3057480" cy="559080"/>
          </a:xfrm>
          <a:custGeom>
            <a:avLst/>
            <a:gdLst>
              <a:gd name="textAreaLeft" fmla="*/ 0 w 3057480"/>
              <a:gd name="textAreaRight" fmla="*/ 3057840 w 3057480"/>
              <a:gd name="textAreaTop" fmla="*/ 0 h 559080"/>
              <a:gd name="textAreaBottom" fmla="*/ 559440 h 559080"/>
            </a:gdLst>
            <a:ahLst/>
            <a:rect l="textAreaLeft" t="textAreaTop" r="textAreaRight" b="textAreaBottom"/>
            <a:pathLst>
              <a:path w="3058795" h="558800">
                <a:moveTo>
                  <a:pt x="2965195" y="0"/>
                </a:moveTo>
                <a:lnTo>
                  <a:pt x="93217" y="0"/>
                </a:lnTo>
                <a:lnTo>
                  <a:pt x="56953" y="7332"/>
                </a:lnTo>
                <a:lnTo>
                  <a:pt x="27320" y="27320"/>
                </a:lnTo>
                <a:lnTo>
                  <a:pt x="7332" y="56953"/>
                </a:lnTo>
                <a:lnTo>
                  <a:pt x="0" y="93218"/>
                </a:lnTo>
                <a:lnTo>
                  <a:pt x="0" y="465582"/>
                </a:lnTo>
                <a:lnTo>
                  <a:pt x="7332" y="501846"/>
                </a:lnTo>
                <a:lnTo>
                  <a:pt x="27320" y="531479"/>
                </a:lnTo>
                <a:lnTo>
                  <a:pt x="56953" y="551467"/>
                </a:lnTo>
                <a:lnTo>
                  <a:pt x="93217" y="558800"/>
                </a:lnTo>
                <a:lnTo>
                  <a:pt x="2965195" y="558800"/>
                </a:lnTo>
                <a:lnTo>
                  <a:pt x="3001440" y="551467"/>
                </a:lnTo>
                <a:lnTo>
                  <a:pt x="3031029" y="531479"/>
                </a:lnTo>
                <a:lnTo>
                  <a:pt x="3050974" y="501846"/>
                </a:lnTo>
                <a:lnTo>
                  <a:pt x="3058287" y="465582"/>
                </a:lnTo>
                <a:lnTo>
                  <a:pt x="3058287" y="93218"/>
                </a:lnTo>
                <a:lnTo>
                  <a:pt x="3050974" y="56953"/>
                </a:lnTo>
                <a:lnTo>
                  <a:pt x="3031029" y="27320"/>
                </a:lnTo>
                <a:lnTo>
                  <a:pt x="3001440" y="7332"/>
                </a:lnTo>
                <a:lnTo>
                  <a:pt x="2965195" y="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bject 25"/>
          <p:cNvSpPr/>
          <p:nvPr/>
        </p:nvSpPr>
        <p:spPr>
          <a:xfrm>
            <a:off x="5979960" y="1150920"/>
            <a:ext cx="28101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dditional capabilities of DRE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object 2"/>
          <p:cNvSpPr/>
          <p:nvPr/>
        </p:nvSpPr>
        <p:spPr>
          <a:xfrm>
            <a:off x="457200" y="6273720"/>
            <a:ext cx="8305920" cy="360"/>
          </a:xfrm>
          <a:custGeom>
            <a:avLst/>
            <a:gdLst/>
            <a:ahLst/>
            <a:rect l="l" t="t" r="r" b="b"/>
            <a:pathLst>
              <a:path w="8305800" h="0">
                <a:moveTo>
                  <a:pt x="0" y="0"/>
                </a:moveTo>
                <a:lnTo>
                  <a:pt x="8305800" y="0"/>
                </a:lnTo>
              </a:path>
            </a:pathLst>
          </a:custGeom>
          <a:noFill/>
          <a:ln w="9360">
            <a:solidFill>
              <a:srgbClr val="ef6f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ject 3"/>
          <p:cNvSpPr/>
          <p:nvPr/>
        </p:nvSpPr>
        <p:spPr>
          <a:xfrm>
            <a:off x="277920" y="914400"/>
            <a:ext cx="8610480" cy="360"/>
          </a:xfrm>
          <a:custGeom>
            <a:avLst/>
            <a:gdLst/>
            <a:ahLst/>
            <a:rect l="l" t="t" r="r" b="b"/>
            <a:pathLst>
              <a:path w="8610600" h="0">
                <a:moveTo>
                  <a:pt x="0" y="0"/>
                </a:moveTo>
                <a:lnTo>
                  <a:pt x="8610587" y="0"/>
                </a:lnTo>
              </a:path>
            </a:pathLst>
          </a:custGeom>
          <a:noFill/>
          <a:ln w="9360">
            <a:solidFill>
              <a:srgbClr val="ef6f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20600"/>
            <a:ext cx="7066080" cy="574560"/>
          </a:xfrm>
          <a:prstGeom prst="rect">
            <a:avLst/>
          </a:prstGeom>
          <a:noFill/>
          <a:ln w="0">
            <a:noFill/>
          </a:ln>
        </p:spPr>
        <p:txBody>
          <a:bodyPr tIns="12600" bIns="91440" anchor="ctr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339920"/>
                <a:tab algn="l" pos="2549520"/>
                <a:tab algn="l" pos="3281400"/>
                <a:tab algn="l" pos="4432320"/>
                <a:tab algn="l" pos="6114960"/>
                <a:tab algn="l" pos="740556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  <a:ea typeface="Calibri"/>
              </a:rPr>
              <a:t>Engaged Intellecap (with multiple stakeholders including financiers, enterprises and industry associations) to design the evaluation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ject 5"/>
          <p:cNvSpPr/>
          <p:nvPr/>
        </p:nvSpPr>
        <p:spPr>
          <a:xfrm>
            <a:off x="209520" y="1027080"/>
            <a:ext cx="8772480" cy="520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bject 6"/>
          <p:cNvSpPr/>
          <p:nvPr/>
        </p:nvSpPr>
        <p:spPr>
          <a:xfrm>
            <a:off x="3570120" y="3049560"/>
            <a:ext cx="182736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1160" algn="ctr">
              <a:lnSpc>
                <a:spcPct val="114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 piloted with  industry  stakeh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bject 7"/>
          <p:cNvSpPr/>
          <p:nvPr/>
        </p:nvSpPr>
        <p:spPr>
          <a:xfrm>
            <a:off x="3994200" y="1515960"/>
            <a:ext cx="982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 indent="9216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ancial  Instit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bject 8"/>
          <p:cNvSpPr/>
          <p:nvPr/>
        </p:nvSpPr>
        <p:spPr>
          <a:xfrm>
            <a:off x="2305080" y="4033800"/>
            <a:ext cx="1008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nterpri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ject 9"/>
          <p:cNvSpPr/>
          <p:nvPr/>
        </p:nvSpPr>
        <p:spPr>
          <a:xfrm>
            <a:off x="5751360" y="4030560"/>
            <a:ext cx="7286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63360" indent="-5076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ustry  Bo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ject 10"/>
          <p:cNvSpPr/>
          <p:nvPr/>
        </p:nvSpPr>
        <p:spPr>
          <a:xfrm>
            <a:off x="357120" y="1009800"/>
            <a:ext cx="232560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14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Tool validated through personal  interviews and telephonic  discussions by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bject 11"/>
          <p:cNvSpPr/>
          <p:nvPr/>
        </p:nvSpPr>
        <p:spPr>
          <a:xfrm>
            <a:off x="357120" y="1689120"/>
            <a:ext cx="99540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960" bIns="0" anchor="t">
            <a:spAutoFit/>
          </a:bodyPr>
          <a:p>
            <a:pPr marL="184320" indent="-171720"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18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3 Ban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84320" indent="-171720">
              <a:spcBef>
                <a:spcPts val="213"/>
              </a:spcBef>
              <a:buClr>
                <a:srgbClr val="000000"/>
              </a:buClr>
              <a:buFont typeface="Arial"/>
              <a:buChar char="•"/>
              <a:tabLst>
                <a:tab algn="l" pos="18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3 NBF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84320" indent="-171720">
              <a:spcBef>
                <a:spcPts val="213"/>
              </a:spcBef>
              <a:buClr>
                <a:srgbClr val="000000"/>
              </a:buClr>
              <a:buFont typeface="Arial"/>
              <a:buChar char="•"/>
              <a:tabLst>
                <a:tab algn="l" pos="18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 invest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bject 12"/>
          <p:cNvSpPr/>
          <p:nvPr/>
        </p:nvSpPr>
        <p:spPr>
          <a:xfrm>
            <a:off x="339840" y="5095800"/>
            <a:ext cx="1881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14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Pilots conducted with 5  DRE enterprises across  different product/ solution  categor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bject 13"/>
          <p:cNvSpPr/>
          <p:nvPr/>
        </p:nvSpPr>
        <p:spPr>
          <a:xfrm>
            <a:off x="6491160" y="4842000"/>
            <a:ext cx="184464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14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Additional feedback from  workshops and industry  associa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ject 14"/>
          <p:cNvSpPr/>
          <p:nvPr/>
        </p:nvSpPr>
        <p:spPr>
          <a:xfrm>
            <a:off x="6491160" y="5521320"/>
            <a:ext cx="192420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960" bIns="0" anchor="t">
            <a:spAutoFit/>
          </a:bodyPr>
          <a:p>
            <a:pPr marL="298440" indent="-285840"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LE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8440" indent="-285840">
              <a:spcBef>
                <a:spcPts val="213"/>
              </a:spcBef>
              <a:buClr>
                <a:srgbClr val="000000"/>
              </a:buClr>
              <a:buFont typeface="Arial"/>
              <a:buChar char="•"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 workshop organiz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8440" indent="-285840">
              <a:spcBef>
                <a:spcPts val="213"/>
              </a:spcBef>
              <a:buClr>
                <a:srgbClr val="000000"/>
              </a:buClr>
              <a:buFont typeface="Arial"/>
              <a:buChar char="•"/>
              <a:tabLst>
                <a:tab algn="l" pos="29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 workshop atten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bject 15"/>
          <p:cNvSpPr/>
          <p:nvPr/>
        </p:nvSpPr>
        <p:spPr>
          <a:xfrm>
            <a:off x="6537240" y="949320"/>
            <a:ext cx="1373400" cy="620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bject 16"/>
          <p:cNvSpPr/>
          <p:nvPr/>
        </p:nvSpPr>
        <p:spPr>
          <a:xfrm>
            <a:off x="5091120" y="936720"/>
            <a:ext cx="1346040" cy="428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bject 17"/>
          <p:cNvSpPr/>
          <p:nvPr/>
        </p:nvSpPr>
        <p:spPr>
          <a:xfrm>
            <a:off x="7991640" y="1063800"/>
            <a:ext cx="1139760" cy="369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bject 18"/>
          <p:cNvSpPr/>
          <p:nvPr/>
        </p:nvSpPr>
        <p:spPr>
          <a:xfrm>
            <a:off x="5432400" y="1455840"/>
            <a:ext cx="1077840" cy="3110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bject 19"/>
          <p:cNvSpPr/>
          <p:nvPr/>
        </p:nvSpPr>
        <p:spPr>
          <a:xfrm>
            <a:off x="8537400" y="1539720"/>
            <a:ext cx="579600" cy="7416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bject 20"/>
          <p:cNvSpPr/>
          <p:nvPr/>
        </p:nvSpPr>
        <p:spPr>
          <a:xfrm>
            <a:off x="6834240" y="1519200"/>
            <a:ext cx="1643040" cy="3189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bject 21"/>
          <p:cNvSpPr/>
          <p:nvPr/>
        </p:nvSpPr>
        <p:spPr>
          <a:xfrm>
            <a:off x="7192800" y="1989000"/>
            <a:ext cx="1171800" cy="31464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bject 22"/>
          <p:cNvSpPr/>
          <p:nvPr/>
        </p:nvSpPr>
        <p:spPr>
          <a:xfrm>
            <a:off x="5905440" y="1789200"/>
            <a:ext cx="1062000" cy="4302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bject 23"/>
          <p:cNvSpPr/>
          <p:nvPr/>
        </p:nvSpPr>
        <p:spPr>
          <a:xfrm>
            <a:off x="5083200" y="5789520"/>
            <a:ext cx="1239840" cy="405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ject 24"/>
          <p:cNvSpPr/>
          <p:nvPr/>
        </p:nvSpPr>
        <p:spPr>
          <a:xfrm>
            <a:off x="1438200" y="3989520"/>
            <a:ext cx="646200" cy="64584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ject 25"/>
          <p:cNvSpPr/>
          <p:nvPr/>
        </p:nvSpPr>
        <p:spPr>
          <a:xfrm>
            <a:off x="71280" y="4378320"/>
            <a:ext cx="1330560" cy="26496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ject 26"/>
          <p:cNvSpPr/>
          <p:nvPr/>
        </p:nvSpPr>
        <p:spPr>
          <a:xfrm>
            <a:off x="765000" y="3936960"/>
            <a:ext cx="636840" cy="32220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ject 27"/>
          <p:cNvSpPr/>
          <p:nvPr/>
        </p:nvSpPr>
        <p:spPr>
          <a:xfrm>
            <a:off x="71280" y="4711680"/>
            <a:ext cx="1528920" cy="25236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ject 28"/>
          <p:cNvSpPr/>
          <p:nvPr/>
        </p:nvSpPr>
        <p:spPr>
          <a:xfrm>
            <a:off x="138240" y="3614760"/>
            <a:ext cx="547560" cy="61920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ject 29"/>
          <p:cNvSpPr/>
          <p:nvPr/>
        </p:nvSpPr>
        <p:spPr>
          <a:xfrm>
            <a:off x="917640" y="3498840"/>
            <a:ext cx="1130400" cy="372960"/>
          </a:xfrm>
          <a:prstGeom prst="rect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object 2"/>
          <p:cNvSpPr/>
          <p:nvPr/>
        </p:nvSpPr>
        <p:spPr>
          <a:xfrm>
            <a:off x="457200" y="6273720"/>
            <a:ext cx="8305920" cy="360"/>
          </a:xfrm>
          <a:custGeom>
            <a:avLst/>
            <a:gdLst/>
            <a:ahLst/>
            <a:rect l="l" t="t" r="r" b="b"/>
            <a:pathLst>
              <a:path w="8305800" h="0">
                <a:moveTo>
                  <a:pt x="0" y="0"/>
                </a:moveTo>
                <a:lnTo>
                  <a:pt x="8305800" y="0"/>
                </a:lnTo>
              </a:path>
            </a:pathLst>
          </a:custGeom>
          <a:noFill/>
          <a:ln w="9360">
            <a:solidFill>
              <a:srgbClr val="ef6f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ject 3"/>
          <p:cNvSpPr/>
          <p:nvPr/>
        </p:nvSpPr>
        <p:spPr>
          <a:xfrm>
            <a:off x="277920" y="914400"/>
            <a:ext cx="8610480" cy="360"/>
          </a:xfrm>
          <a:custGeom>
            <a:avLst/>
            <a:gdLst/>
            <a:ahLst/>
            <a:rect l="l" t="t" r="r" b="b"/>
            <a:pathLst>
              <a:path w="8610600" h="0">
                <a:moveTo>
                  <a:pt x="0" y="0"/>
                </a:moveTo>
                <a:lnTo>
                  <a:pt x="8610587" y="0"/>
                </a:lnTo>
              </a:path>
            </a:pathLst>
          </a:custGeom>
          <a:noFill/>
          <a:ln w="9360">
            <a:solidFill>
              <a:srgbClr val="ef6f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39080" cy="620640"/>
          </a:xfrm>
          <a:prstGeom prst="rect">
            <a:avLst/>
          </a:prstGeom>
          <a:noFill/>
          <a:ln w="0">
            <a:noFill/>
          </a:ln>
        </p:spPr>
        <p:txBody>
          <a:bodyPr tIns="12600" bIns="91440" anchor="ctr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022400"/>
                <a:tab algn="l" pos="1436760"/>
                <a:tab algn="l" pos="2484360"/>
                <a:tab algn="l" pos="4192560"/>
                <a:tab algn="l" pos="5761080"/>
                <a:tab algn="l" pos="6280200"/>
                <a:tab algn="l" pos="7188120"/>
                <a:tab algn="l" pos="7677000"/>
                <a:tab algn="l" pos="82440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Calibri"/>
              </a:rPr>
              <a:t>CLEAN will anchor the tool for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Calibri"/>
                <a:ea typeface="Calibri"/>
              </a:rPr>
              <a:t>uptake by practitioners and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ject 5"/>
          <p:cNvSpPr/>
          <p:nvPr/>
        </p:nvSpPr>
        <p:spPr>
          <a:xfrm>
            <a:off x="5291280" y="1109520"/>
            <a:ext cx="1274760" cy="127656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1276560"/>
              <a:gd name="textAreaBottom" fmla="*/ 1276560 h 1276560"/>
            </a:gdLst>
            <a:ahLst/>
            <a:rect l="textAreaLeft" t="textAreaTop" r="textAreaRight" b="textAreaBottom"/>
            <a:pathLst>
              <a:path w="1275715" h="1275714">
                <a:moveTo>
                  <a:pt x="0" y="212597"/>
                </a:moveTo>
                <a:lnTo>
                  <a:pt x="5611" y="163832"/>
                </a:lnTo>
                <a:lnTo>
                  <a:pt x="21598" y="119076"/>
                </a:lnTo>
                <a:lnTo>
                  <a:pt x="46686" y="79603"/>
                </a:lnTo>
                <a:lnTo>
                  <a:pt x="79603" y="46686"/>
                </a:lnTo>
                <a:lnTo>
                  <a:pt x="119076" y="21598"/>
                </a:lnTo>
                <a:lnTo>
                  <a:pt x="163832" y="5611"/>
                </a:lnTo>
                <a:lnTo>
                  <a:pt x="212598" y="0"/>
                </a:lnTo>
                <a:lnTo>
                  <a:pt x="1062989" y="0"/>
                </a:lnTo>
                <a:lnTo>
                  <a:pt x="1111715" y="5611"/>
                </a:lnTo>
                <a:lnTo>
                  <a:pt x="1156456" y="21598"/>
                </a:lnTo>
                <a:lnTo>
                  <a:pt x="1195931" y="46686"/>
                </a:lnTo>
                <a:lnTo>
                  <a:pt x="1228861" y="79603"/>
                </a:lnTo>
                <a:lnTo>
                  <a:pt x="1253967" y="119076"/>
                </a:lnTo>
                <a:lnTo>
                  <a:pt x="1269969" y="163832"/>
                </a:lnTo>
                <a:lnTo>
                  <a:pt x="1275588" y="212597"/>
                </a:lnTo>
                <a:lnTo>
                  <a:pt x="1275588" y="1062989"/>
                </a:lnTo>
                <a:lnTo>
                  <a:pt x="1269969" y="1111755"/>
                </a:lnTo>
                <a:lnTo>
                  <a:pt x="1253967" y="1156511"/>
                </a:lnTo>
                <a:lnTo>
                  <a:pt x="1228861" y="1195984"/>
                </a:lnTo>
                <a:lnTo>
                  <a:pt x="1195931" y="1228901"/>
                </a:lnTo>
                <a:lnTo>
                  <a:pt x="1156456" y="1253989"/>
                </a:lnTo>
                <a:lnTo>
                  <a:pt x="1111715" y="1269976"/>
                </a:lnTo>
                <a:lnTo>
                  <a:pt x="1062989" y="1275588"/>
                </a:lnTo>
                <a:lnTo>
                  <a:pt x="212598" y="1275588"/>
                </a:lnTo>
                <a:lnTo>
                  <a:pt x="163832" y="1269976"/>
                </a:lnTo>
                <a:lnTo>
                  <a:pt x="119076" y="1253989"/>
                </a:lnTo>
                <a:lnTo>
                  <a:pt x="79603" y="1228901"/>
                </a:lnTo>
                <a:lnTo>
                  <a:pt x="46686" y="1195984"/>
                </a:lnTo>
                <a:lnTo>
                  <a:pt x="21598" y="1156511"/>
                </a:lnTo>
                <a:lnTo>
                  <a:pt x="5611" y="1111755"/>
                </a:lnTo>
                <a:lnTo>
                  <a:pt x="0" y="1062989"/>
                </a:lnTo>
                <a:lnTo>
                  <a:pt x="0" y="212597"/>
                </a:lnTo>
                <a:close/>
              </a:path>
            </a:pathLst>
          </a:custGeom>
          <a:noFill/>
          <a:ln w="9360">
            <a:solidFill>
              <a:srgbClr val="ef6f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bject 6"/>
          <p:cNvSpPr/>
          <p:nvPr/>
        </p:nvSpPr>
        <p:spPr>
          <a:xfrm>
            <a:off x="5392800" y="1335240"/>
            <a:ext cx="107640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t">
            <a:spAutoFit/>
          </a:bodyPr>
          <a:p>
            <a:pPr marL="12600" indent="-3240" algn="ctr">
              <a:lnSpc>
                <a:spcPct val="86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chor the  tool for the  DRE industry  in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bject 7"/>
          <p:cNvSpPr/>
          <p:nvPr/>
        </p:nvSpPr>
        <p:spPr>
          <a:xfrm>
            <a:off x="6329520" y="2336760"/>
            <a:ext cx="645840" cy="1073160"/>
          </a:xfrm>
          <a:custGeom>
            <a:avLst/>
            <a:gdLst>
              <a:gd name="textAreaLeft" fmla="*/ 0 w 645840"/>
              <a:gd name="textAreaRight" fmla="*/ 645840 w 64584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646429" h="1073785">
                <a:moveTo>
                  <a:pt x="65912" y="867410"/>
                </a:moveTo>
                <a:lnTo>
                  <a:pt x="365251" y="1073658"/>
                </a:lnTo>
                <a:lnTo>
                  <a:pt x="646302" y="869823"/>
                </a:lnTo>
                <a:lnTo>
                  <a:pt x="481075" y="869061"/>
                </a:lnTo>
                <a:lnTo>
                  <a:pt x="480974" y="868045"/>
                </a:lnTo>
                <a:lnTo>
                  <a:pt x="231139" y="868045"/>
                </a:lnTo>
                <a:lnTo>
                  <a:pt x="65912" y="867410"/>
                </a:lnTo>
                <a:close/>
              </a:path>
              <a:path w="646429" h="1073785">
                <a:moveTo>
                  <a:pt x="218439" y="0"/>
                </a:moveTo>
                <a:lnTo>
                  <a:pt x="0" y="118999"/>
                </a:lnTo>
                <a:lnTo>
                  <a:pt x="23110" y="162721"/>
                </a:lnTo>
                <a:lnTo>
                  <a:pt x="45097" y="206957"/>
                </a:lnTo>
                <a:lnTo>
                  <a:pt x="65954" y="251685"/>
                </a:lnTo>
                <a:lnTo>
                  <a:pt x="85675" y="296884"/>
                </a:lnTo>
                <a:lnTo>
                  <a:pt x="104252" y="342531"/>
                </a:lnTo>
                <a:lnTo>
                  <a:pt x="121678" y="388606"/>
                </a:lnTo>
                <a:lnTo>
                  <a:pt x="137946" y="435086"/>
                </a:lnTo>
                <a:lnTo>
                  <a:pt x="153050" y="481949"/>
                </a:lnTo>
                <a:lnTo>
                  <a:pt x="166983" y="529173"/>
                </a:lnTo>
                <a:lnTo>
                  <a:pt x="179738" y="576738"/>
                </a:lnTo>
                <a:lnTo>
                  <a:pt x="191308" y="624621"/>
                </a:lnTo>
                <a:lnTo>
                  <a:pt x="201685" y="672800"/>
                </a:lnTo>
                <a:lnTo>
                  <a:pt x="210864" y="721254"/>
                </a:lnTo>
                <a:lnTo>
                  <a:pt x="218838" y="769960"/>
                </a:lnTo>
                <a:lnTo>
                  <a:pt x="225598" y="818898"/>
                </a:lnTo>
                <a:lnTo>
                  <a:pt x="231139" y="868045"/>
                </a:lnTo>
                <a:lnTo>
                  <a:pt x="480974" y="868045"/>
                </a:lnTo>
                <a:lnTo>
                  <a:pt x="476011" y="818367"/>
                </a:lnTo>
                <a:lnTo>
                  <a:pt x="469794" y="767857"/>
                </a:lnTo>
                <a:lnTo>
                  <a:pt x="462432" y="717550"/>
                </a:lnTo>
                <a:lnTo>
                  <a:pt x="453931" y="667463"/>
                </a:lnTo>
                <a:lnTo>
                  <a:pt x="444295" y="617616"/>
                </a:lnTo>
                <a:lnTo>
                  <a:pt x="433530" y="568028"/>
                </a:lnTo>
                <a:lnTo>
                  <a:pt x="421644" y="518718"/>
                </a:lnTo>
                <a:lnTo>
                  <a:pt x="408640" y="469704"/>
                </a:lnTo>
                <a:lnTo>
                  <a:pt x="394525" y="421005"/>
                </a:lnTo>
                <a:lnTo>
                  <a:pt x="379305" y="372639"/>
                </a:lnTo>
                <a:lnTo>
                  <a:pt x="362985" y="324627"/>
                </a:lnTo>
                <a:lnTo>
                  <a:pt x="345571" y="276987"/>
                </a:lnTo>
                <a:lnTo>
                  <a:pt x="327069" y="229736"/>
                </a:lnTo>
                <a:lnTo>
                  <a:pt x="307485" y="182895"/>
                </a:lnTo>
                <a:lnTo>
                  <a:pt x="286824" y="136482"/>
                </a:lnTo>
                <a:lnTo>
                  <a:pt x="265093" y="90516"/>
                </a:lnTo>
                <a:lnTo>
                  <a:pt x="242296" y="45016"/>
                </a:lnTo>
                <a:lnTo>
                  <a:pt x="218439" y="0"/>
                </a:lnTo>
                <a:close/>
              </a:path>
            </a:pathLst>
          </a:custGeom>
          <a:solidFill>
            <a:srgbClr val="f79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bject 8"/>
          <p:cNvSpPr/>
          <p:nvPr/>
        </p:nvSpPr>
        <p:spPr>
          <a:xfrm>
            <a:off x="6329520" y="2336760"/>
            <a:ext cx="645840" cy="1073160"/>
          </a:xfrm>
          <a:custGeom>
            <a:avLst/>
            <a:gdLst>
              <a:gd name="textAreaLeft" fmla="*/ 0 w 645840"/>
              <a:gd name="textAreaRight" fmla="*/ 645840 w 64584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646429" h="1073785">
                <a:moveTo>
                  <a:pt x="218439" y="0"/>
                </a:moveTo>
                <a:lnTo>
                  <a:pt x="242296" y="45016"/>
                </a:lnTo>
                <a:lnTo>
                  <a:pt x="265093" y="90516"/>
                </a:lnTo>
                <a:lnTo>
                  <a:pt x="286824" y="136482"/>
                </a:lnTo>
                <a:lnTo>
                  <a:pt x="307485" y="182895"/>
                </a:lnTo>
                <a:lnTo>
                  <a:pt x="327069" y="229736"/>
                </a:lnTo>
                <a:lnTo>
                  <a:pt x="345571" y="276987"/>
                </a:lnTo>
                <a:lnTo>
                  <a:pt x="362985" y="324627"/>
                </a:lnTo>
                <a:lnTo>
                  <a:pt x="379305" y="372639"/>
                </a:lnTo>
                <a:lnTo>
                  <a:pt x="394525" y="421005"/>
                </a:lnTo>
                <a:lnTo>
                  <a:pt x="408640" y="469704"/>
                </a:lnTo>
                <a:lnTo>
                  <a:pt x="421644" y="518718"/>
                </a:lnTo>
                <a:lnTo>
                  <a:pt x="433530" y="568028"/>
                </a:lnTo>
                <a:lnTo>
                  <a:pt x="444295" y="617616"/>
                </a:lnTo>
                <a:lnTo>
                  <a:pt x="453931" y="667463"/>
                </a:lnTo>
                <a:lnTo>
                  <a:pt x="462432" y="717550"/>
                </a:lnTo>
                <a:lnTo>
                  <a:pt x="469794" y="767857"/>
                </a:lnTo>
                <a:lnTo>
                  <a:pt x="476011" y="818367"/>
                </a:lnTo>
                <a:lnTo>
                  <a:pt x="481075" y="869061"/>
                </a:lnTo>
                <a:lnTo>
                  <a:pt x="646302" y="869823"/>
                </a:lnTo>
                <a:lnTo>
                  <a:pt x="365251" y="1073658"/>
                </a:lnTo>
                <a:lnTo>
                  <a:pt x="65912" y="867410"/>
                </a:lnTo>
                <a:lnTo>
                  <a:pt x="231139" y="868045"/>
                </a:lnTo>
                <a:lnTo>
                  <a:pt x="225598" y="818898"/>
                </a:lnTo>
                <a:lnTo>
                  <a:pt x="218838" y="769960"/>
                </a:lnTo>
                <a:lnTo>
                  <a:pt x="210864" y="721254"/>
                </a:lnTo>
                <a:lnTo>
                  <a:pt x="201685" y="672800"/>
                </a:lnTo>
                <a:lnTo>
                  <a:pt x="191308" y="624621"/>
                </a:lnTo>
                <a:lnTo>
                  <a:pt x="179738" y="576738"/>
                </a:lnTo>
                <a:lnTo>
                  <a:pt x="166983" y="529173"/>
                </a:lnTo>
                <a:lnTo>
                  <a:pt x="153050" y="481949"/>
                </a:lnTo>
                <a:lnTo>
                  <a:pt x="137946" y="435086"/>
                </a:lnTo>
                <a:lnTo>
                  <a:pt x="121678" y="388606"/>
                </a:lnTo>
                <a:lnTo>
                  <a:pt x="104252" y="342531"/>
                </a:lnTo>
                <a:lnTo>
                  <a:pt x="85675" y="296884"/>
                </a:lnTo>
                <a:lnTo>
                  <a:pt x="65954" y="251685"/>
                </a:lnTo>
                <a:lnTo>
                  <a:pt x="45097" y="206957"/>
                </a:lnTo>
                <a:lnTo>
                  <a:pt x="23110" y="162721"/>
                </a:lnTo>
                <a:lnTo>
                  <a:pt x="0" y="118999"/>
                </a:lnTo>
                <a:lnTo>
                  <a:pt x="218439" y="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bject 9"/>
          <p:cNvSpPr/>
          <p:nvPr/>
        </p:nvSpPr>
        <p:spPr>
          <a:xfrm>
            <a:off x="5973840" y="3409920"/>
            <a:ext cx="1274760" cy="127656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1276560"/>
              <a:gd name="textAreaBottom" fmla="*/ 1276560 h 1276560"/>
            </a:gdLst>
            <a:ahLst/>
            <a:rect l="textAreaLeft" t="textAreaTop" r="textAreaRight" b="textAreaBottom"/>
            <a:pathLst>
              <a:path w="1275715" h="1275714">
                <a:moveTo>
                  <a:pt x="0" y="212598"/>
                </a:moveTo>
                <a:lnTo>
                  <a:pt x="5618" y="163832"/>
                </a:lnTo>
                <a:lnTo>
                  <a:pt x="21620" y="119076"/>
                </a:lnTo>
                <a:lnTo>
                  <a:pt x="46726" y="79603"/>
                </a:lnTo>
                <a:lnTo>
                  <a:pt x="79656" y="46686"/>
                </a:lnTo>
                <a:lnTo>
                  <a:pt x="119131" y="21598"/>
                </a:lnTo>
                <a:lnTo>
                  <a:pt x="163872" y="5611"/>
                </a:lnTo>
                <a:lnTo>
                  <a:pt x="212597" y="0"/>
                </a:lnTo>
                <a:lnTo>
                  <a:pt x="1062989" y="0"/>
                </a:lnTo>
                <a:lnTo>
                  <a:pt x="1111755" y="5611"/>
                </a:lnTo>
                <a:lnTo>
                  <a:pt x="1156511" y="21598"/>
                </a:lnTo>
                <a:lnTo>
                  <a:pt x="1195984" y="46686"/>
                </a:lnTo>
                <a:lnTo>
                  <a:pt x="1228901" y="79603"/>
                </a:lnTo>
                <a:lnTo>
                  <a:pt x="1253989" y="119076"/>
                </a:lnTo>
                <a:lnTo>
                  <a:pt x="1269976" y="163832"/>
                </a:lnTo>
                <a:lnTo>
                  <a:pt x="1275587" y="212598"/>
                </a:lnTo>
                <a:lnTo>
                  <a:pt x="1275587" y="1062989"/>
                </a:lnTo>
                <a:lnTo>
                  <a:pt x="1269976" y="1111715"/>
                </a:lnTo>
                <a:lnTo>
                  <a:pt x="1253989" y="1156456"/>
                </a:lnTo>
                <a:lnTo>
                  <a:pt x="1228901" y="1195931"/>
                </a:lnTo>
                <a:lnTo>
                  <a:pt x="1195984" y="1228861"/>
                </a:lnTo>
                <a:lnTo>
                  <a:pt x="1156511" y="1253967"/>
                </a:lnTo>
                <a:lnTo>
                  <a:pt x="1111755" y="1269969"/>
                </a:lnTo>
                <a:lnTo>
                  <a:pt x="1062989" y="1275588"/>
                </a:lnTo>
                <a:lnTo>
                  <a:pt x="212597" y="1275588"/>
                </a:lnTo>
                <a:lnTo>
                  <a:pt x="163872" y="1269969"/>
                </a:lnTo>
                <a:lnTo>
                  <a:pt x="119131" y="1253967"/>
                </a:lnTo>
                <a:lnTo>
                  <a:pt x="79656" y="1228861"/>
                </a:lnTo>
                <a:lnTo>
                  <a:pt x="46726" y="1195931"/>
                </a:lnTo>
                <a:lnTo>
                  <a:pt x="21620" y="1156456"/>
                </a:lnTo>
                <a:lnTo>
                  <a:pt x="5618" y="1111715"/>
                </a:lnTo>
                <a:lnTo>
                  <a:pt x="0" y="1062989"/>
                </a:lnTo>
                <a:lnTo>
                  <a:pt x="0" y="212598"/>
                </a:lnTo>
                <a:close/>
              </a:path>
            </a:pathLst>
          </a:custGeom>
          <a:noFill/>
          <a:ln w="9360">
            <a:solidFill>
              <a:srgbClr val="ef6f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bject 10"/>
          <p:cNvSpPr/>
          <p:nvPr/>
        </p:nvSpPr>
        <p:spPr>
          <a:xfrm>
            <a:off x="6064200" y="3451320"/>
            <a:ext cx="1093680" cy="11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t">
            <a:spAutoFit/>
          </a:bodyPr>
          <a:p>
            <a:pPr marL="12600" algn="ctr">
              <a:lnSpc>
                <a:spcPct val="86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  updates on  backend data  for external  and sector  level sc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bject 11"/>
          <p:cNvSpPr/>
          <p:nvPr/>
        </p:nvSpPr>
        <p:spPr>
          <a:xfrm>
            <a:off x="5322960" y="4597560"/>
            <a:ext cx="1035000" cy="957240"/>
          </a:xfrm>
          <a:custGeom>
            <a:avLst/>
            <a:gdLst>
              <a:gd name="textAreaLeft" fmla="*/ 0 w 1035000"/>
              <a:gd name="textAreaRight" fmla="*/ 1035360 w 1035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1035685" h="957579">
                <a:moveTo>
                  <a:pt x="88011" y="413130"/>
                </a:moveTo>
                <a:lnTo>
                  <a:pt x="0" y="765936"/>
                </a:lnTo>
                <a:lnTo>
                  <a:pt x="289560" y="957452"/>
                </a:lnTo>
                <a:lnTo>
                  <a:pt x="232156" y="802512"/>
                </a:lnTo>
                <a:lnTo>
                  <a:pt x="276893" y="780454"/>
                </a:lnTo>
                <a:lnTo>
                  <a:pt x="321073" y="757428"/>
                </a:lnTo>
                <a:lnTo>
                  <a:pt x="364679" y="733448"/>
                </a:lnTo>
                <a:lnTo>
                  <a:pt x="407697" y="708524"/>
                </a:lnTo>
                <a:lnTo>
                  <a:pt x="450114" y="682668"/>
                </a:lnTo>
                <a:lnTo>
                  <a:pt x="491915" y="655892"/>
                </a:lnTo>
                <a:lnTo>
                  <a:pt x="533084" y="628207"/>
                </a:lnTo>
                <a:lnTo>
                  <a:pt x="573609" y="599625"/>
                </a:lnTo>
                <a:lnTo>
                  <a:pt x="613474" y="570157"/>
                </a:lnTo>
                <a:lnTo>
                  <a:pt x="616169" y="568070"/>
                </a:lnTo>
                <a:lnTo>
                  <a:pt x="145414" y="568070"/>
                </a:lnTo>
                <a:lnTo>
                  <a:pt x="88011" y="413130"/>
                </a:lnTo>
                <a:close/>
              </a:path>
              <a:path w="1035685" h="957579">
                <a:moveTo>
                  <a:pt x="837946" y="0"/>
                </a:moveTo>
                <a:lnTo>
                  <a:pt x="806748" y="39559"/>
                </a:lnTo>
                <a:lnTo>
                  <a:pt x="774593" y="78258"/>
                </a:lnTo>
                <a:lnTo>
                  <a:pt x="741500" y="116083"/>
                </a:lnTo>
                <a:lnTo>
                  <a:pt x="707488" y="153017"/>
                </a:lnTo>
                <a:lnTo>
                  <a:pt x="672576" y="189046"/>
                </a:lnTo>
                <a:lnTo>
                  <a:pt x="636782" y="224154"/>
                </a:lnTo>
                <a:lnTo>
                  <a:pt x="600126" y="258327"/>
                </a:lnTo>
                <a:lnTo>
                  <a:pt x="562627" y="291548"/>
                </a:lnTo>
                <a:lnTo>
                  <a:pt x="524303" y="323802"/>
                </a:lnTo>
                <a:lnTo>
                  <a:pt x="485174" y="355074"/>
                </a:lnTo>
                <a:lnTo>
                  <a:pt x="445258" y="385349"/>
                </a:lnTo>
                <a:lnTo>
                  <a:pt x="404574" y="414612"/>
                </a:lnTo>
                <a:lnTo>
                  <a:pt x="363142" y="442847"/>
                </a:lnTo>
                <a:lnTo>
                  <a:pt x="320980" y="470039"/>
                </a:lnTo>
                <a:lnTo>
                  <a:pt x="278108" y="496173"/>
                </a:lnTo>
                <a:lnTo>
                  <a:pt x="234543" y="521233"/>
                </a:lnTo>
                <a:lnTo>
                  <a:pt x="190306" y="545204"/>
                </a:lnTo>
                <a:lnTo>
                  <a:pt x="145414" y="568070"/>
                </a:lnTo>
                <a:lnTo>
                  <a:pt x="616169" y="568070"/>
                </a:lnTo>
                <a:lnTo>
                  <a:pt x="652666" y="539814"/>
                </a:lnTo>
                <a:lnTo>
                  <a:pt x="691169" y="508609"/>
                </a:lnTo>
                <a:lnTo>
                  <a:pt x="728969" y="476553"/>
                </a:lnTo>
                <a:lnTo>
                  <a:pt x="766052" y="443656"/>
                </a:lnTo>
                <a:lnTo>
                  <a:pt x="802404" y="409932"/>
                </a:lnTo>
                <a:lnTo>
                  <a:pt x="838010" y="375391"/>
                </a:lnTo>
                <a:lnTo>
                  <a:pt x="872856" y="340044"/>
                </a:lnTo>
                <a:lnTo>
                  <a:pt x="906927" y="303904"/>
                </a:lnTo>
                <a:lnTo>
                  <a:pt x="940209" y="266982"/>
                </a:lnTo>
                <a:lnTo>
                  <a:pt x="972688" y="229289"/>
                </a:lnTo>
                <a:lnTo>
                  <a:pt x="1004348" y="190837"/>
                </a:lnTo>
                <a:lnTo>
                  <a:pt x="1035176" y="151637"/>
                </a:lnTo>
                <a:lnTo>
                  <a:pt x="837946" y="0"/>
                </a:lnTo>
                <a:close/>
              </a:path>
            </a:pathLst>
          </a:custGeom>
          <a:solidFill>
            <a:srgbClr val="f79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bject 12"/>
          <p:cNvSpPr/>
          <p:nvPr/>
        </p:nvSpPr>
        <p:spPr>
          <a:xfrm>
            <a:off x="5322960" y="4597560"/>
            <a:ext cx="1035000" cy="957240"/>
          </a:xfrm>
          <a:custGeom>
            <a:avLst/>
            <a:gdLst>
              <a:gd name="textAreaLeft" fmla="*/ 0 w 1035000"/>
              <a:gd name="textAreaRight" fmla="*/ 1035360 w 1035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1035685" h="957579">
                <a:moveTo>
                  <a:pt x="1035176" y="151637"/>
                </a:moveTo>
                <a:lnTo>
                  <a:pt x="1004348" y="190837"/>
                </a:lnTo>
                <a:lnTo>
                  <a:pt x="972688" y="229289"/>
                </a:lnTo>
                <a:lnTo>
                  <a:pt x="940209" y="266982"/>
                </a:lnTo>
                <a:lnTo>
                  <a:pt x="906927" y="303904"/>
                </a:lnTo>
                <a:lnTo>
                  <a:pt x="872856" y="340044"/>
                </a:lnTo>
                <a:lnTo>
                  <a:pt x="838010" y="375391"/>
                </a:lnTo>
                <a:lnTo>
                  <a:pt x="802404" y="409932"/>
                </a:lnTo>
                <a:lnTo>
                  <a:pt x="766052" y="443656"/>
                </a:lnTo>
                <a:lnTo>
                  <a:pt x="728969" y="476553"/>
                </a:lnTo>
                <a:lnTo>
                  <a:pt x="691169" y="508609"/>
                </a:lnTo>
                <a:lnTo>
                  <a:pt x="652666" y="539814"/>
                </a:lnTo>
                <a:lnTo>
                  <a:pt x="613474" y="570157"/>
                </a:lnTo>
                <a:lnTo>
                  <a:pt x="573609" y="599625"/>
                </a:lnTo>
                <a:lnTo>
                  <a:pt x="533084" y="628207"/>
                </a:lnTo>
                <a:lnTo>
                  <a:pt x="491915" y="655892"/>
                </a:lnTo>
                <a:lnTo>
                  <a:pt x="450114" y="682668"/>
                </a:lnTo>
                <a:lnTo>
                  <a:pt x="407697" y="708524"/>
                </a:lnTo>
                <a:lnTo>
                  <a:pt x="364679" y="733448"/>
                </a:lnTo>
                <a:lnTo>
                  <a:pt x="321073" y="757428"/>
                </a:lnTo>
                <a:lnTo>
                  <a:pt x="276893" y="780454"/>
                </a:lnTo>
                <a:lnTo>
                  <a:pt x="232156" y="802512"/>
                </a:lnTo>
                <a:lnTo>
                  <a:pt x="289560" y="957452"/>
                </a:lnTo>
                <a:lnTo>
                  <a:pt x="0" y="765936"/>
                </a:lnTo>
                <a:lnTo>
                  <a:pt x="88011" y="413130"/>
                </a:lnTo>
                <a:lnTo>
                  <a:pt x="145414" y="568070"/>
                </a:lnTo>
                <a:lnTo>
                  <a:pt x="190306" y="545204"/>
                </a:lnTo>
                <a:lnTo>
                  <a:pt x="234543" y="521233"/>
                </a:lnTo>
                <a:lnTo>
                  <a:pt x="278108" y="496173"/>
                </a:lnTo>
                <a:lnTo>
                  <a:pt x="320980" y="470039"/>
                </a:lnTo>
                <a:lnTo>
                  <a:pt x="363142" y="442847"/>
                </a:lnTo>
                <a:lnTo>
                  <a:pt x="404574" y="414612"/>
                </a:lnTo>
                <a:lnTo>
                  <a:pt x="445258" y="385349"/>
                </a:lnTo>
                <a:lnTo>
                  <a:pt x="485174" y="355074"/>
                </a:lnTo>
                <a:lnTo>
                  <a:pt x="524303" y="323802"/>
                </a:lnTo>
                <a:lnTo>
                  <a:pt x="562627" y="291548"/>
                </a:lnTo>
                <a:lnTo>
                  <a:pt x="600126" y="258327"/>
                </a:lnTo>
                <a:lnTo>
                  <a:pt x="636782" y="224154"/>
                </a:lnTo>
                <a:lnTo>
                  <a:pt x="672576" y="189046"/>
                </a:lnTo>
                <a:lnTo>
                  <a:pt x="707488" y="153017"/>
                </a:lnTo>
                <a:lnTo>
                  <a:pt x="741500" y="116083"/>
                </a:lnTo>
                <a:lnTo>
                  <a:pt x="774593" y="78258"/>
                </a:lnTo>
                <a:lnTo>
                  <a:pt x="806748" y="39559"/>
                </a:lnTo>
                <a:lnTo>
                  <a:pt x="837946" y="0"/>
                </a:lnTo>
                <a:lnTo>
                  <a:pt x="1035176" y="151637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ject 13"/>
          <p:cNvSpPr/>
          <p:nvPr/>
        </p:nvSpPr>
        <p:spPr>
          <a:xfrm>
            <a:off x="3855960" y="4876920"/>
            <a:ext cx="1473120" cy="1276200"/>
          </a:xfrm>
          <a:custGeom>
            <a:avLst/>
            <a:gdLst>
              <a:gd name="textAreaLeft" fmla="*/ 0 w 1473120"/>
              <a:gd name="textAreaRight" fmla="*/ 1473480 w 1473120"/>
              <a:gd name="textAreaTop" fmla="*/ 0 h 1276200"/>
              <a:gd name="textAreaBottom" fmla="*/ 1276560 h 1276200"/>
            </a:gdLst>
            <a:ahLst/>
            <a:rect l="textAreaLeft" t="textAreaTop" r="textAreaRight" b="textAreaBottom"/>
            <a:pathLst>
              <a:path w="1474470" h="1275714">
                <a:moveTo>
                  <a:pt x="0" y="212597"/>
                </a:moveTo>
                <a:lnTo>
                  <a:pt x="5611" y="163832"/>
                </a:lnTo>
                <a:lnTo>
                  <a:pt x="21598" y="119076"/>
                </a:lnTo>
                <a:lnTo>
                  <a:pt x="46686" y="79603"/>
                </a:lnTo>
                <a:lnTo>
                  <a:pt x="79603" y="46686"/>
                </a:lnTo>
                <a:lnTo>
                  <a:pt x="119076" y="21598"/>
                </a:lnTo>
                <a:lnTo>
                  <a:pt x="163832" y="5611"/>
                </a:lnTo>
                <a:lnTo>
                  <a:pt x="212598" y="0"/>
                </a:lnTo>
                <a:lnTo>
                  <a:pt x="1261491" y="0"/>
                </a:lnTo>
                <a:lnTo>
                  <a:pt x="1310216" y="5611"/>
                </a:lnTo>
                <a:lnTo>
                  <a:pt x="1354957" y="21598"/>
                </a:lnTo>
                <a:lnTo>
                  <a:pt x="1394432" y="46686"/>
                </a:lnTo>
                <a:lnTo>
                  <a:pt x="1427362" y="79603"/>
                </a:lnTo>
                <a:lnTo>
                  <a:pt x="1452468" y="119076"/>
                </a:lnTo>
                <a:lnTo>
                  <a:pt x="1468470" y="163832"/>
                </a:lnTo>
                <a:lnTo>
                  <a:pt x="1474089" y="212597"/>
                </a:lnTo>
                <a:lnTo>
                  <a:pt x="1474089" y="1062977"/>
                </a:lnTo>
                <a:lnTo>
                  <a:pt x="1468470" y="1111727"/>
                </a:lnTo>
                <a:lnTo>
                  <a:pt x="1452468" y="1156479"/>
                </a:lnTo>
                <a:lnTo>
                  <a:pt x="1427362" y="1195955"/>
                </a:lnTo>
                <a:lnTo>
                  <a:pt x="1394432" y="1228880"/>
                </a:lnTo>
                <a:lnTo>
                  <a:pt x="1354957" y="1253978"/>
                </a:lnTo>
                <a:lnTo>
                  <a:pt x="1310216" y="1269972"/>
                </a:lnTo>
                <a:lnTo>
                  <a:pt x="1261491" y="1275588"/>
                </a:lnTo>
                <a:lnTo>
                  <a:pt x="212598" y="1275588"/>
                </a:lnTo>
                <a:lnTo>
                  <a:pt x="163832" y="1269972"/>
                </a:lnTo>
                <a:lnTo>
                  <a:pt x="119076" y="1253978"/>
                </a:lnTo>
                <a:lnTo>
                  <a:pt x="79603" y="1228880"/>
                </a:lnTo>
                <a:lnTo>
                  <a:pt x="46686" y="1195955"/>
                </a:lnTo>
                <a:lnTo>
                  <a:pt x="21598" y="1156479"/>
                </a:lnTo>
                <a:lnTo>
                  <a:pt x="5611" y="1111727"/>
                </a:lnTo>
                <a:lnTo>
                  <a:pt x="0" y="1062977"/>
                </a:lnTo>
                <a:lnTo>
                  <a:pt x="0" y="212597"/>
                </a:lnTo>
                <a:close/>
              </a:path>
            </a:pathLst>
          </a:custGeom>
          <a:noFill/>
          <a:ln w="9360">
            <a:solidFill>
              <a:srgbClr val="ef6f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ject 14"/>
          <p:cNvSpPr/>
          <p:nvPr/>
        </p:nvSpPr>
        <p:spPr>
          <a:xfrm>
            <a:off x="3976560" y="5103720"/>
            <a:ext cx="1233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t">
            <a:spAutoFit/>
          </a:bodyPr>
          <a:p>
            <a:pPr marL="12600" indent="-1440" algn="ctr">
              <a:lnSpc>
                <a:spcPct val="86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semination  of industry  reports through  the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ject 15"/>
          <p:cNvSpPr/>
          <p:nvPr/>
        </p:nvSpPr>
        <p:spPr>
          <a:xfrm>
            <a:off x="2828880" y="4653000"/>
            <a:ext cx="1076400" cy="826920"/>
          </a:xfrm>
          <a:custGeom>
            <a:avLst/>
            <a:gdLst>
              <a:gd name="textAreaLeft" fmla="*/ 0 w 1076400"/>
              <a:gd name="textAreaRight" fmla="*/ 1076760 w 1076400"/>
              <a:gd name="textAreaTop" fmla="*/ 0 h 826920"/>
              <a:gd name="textAreaBottom" fmla="*/ 827280 h 826920"/>
            </a:gdLst>
            <a:ahLst/>
            <a:rect l="textAreaLeft" t="textAreaTop" r="textAreaRight" b="textAreaBottom"/>
            <a:pathLst>
              <a:path w="1076960" h="827404">
                <a:moveTo>
                  <a:pt x="491089" y="252983"/>
                </a:moveTo>
                <a:lnTo>
                  <a:pt x="130937" y="252983"/>
                </a:lnTo>
                <a:lnTo>
                  <a:pt x="165249" y="289172"/>
                </a:lnTo>
                <a:lnTo>
                  <a:pt x="200322" y="324541"/>
                </a:lnTo>
                <a:lnTo>
                  <a:pt x="236139" y="359080"/>
                </a:lnTo>
                <a:lnTo>
                  <a:pt x="272686" y="392780"/>
                </a:lnTo>
                <a:lnTo>
                  <a:pt x="309946" y="425630"/>
                </a:lnTo>
                <a:lnTo>
                  <a:pt x="347904" y="457619"/>
                </a:lnTo>
                <a:lnTo>
                  <a:pt x="386545" y="488738"/>
                </a:lnTo>
                <a:lnTo>
                  <a:pt x="425853" y="518975"/>
                </a:lnTo>
                <a:lnTo>
                  <a:pt x="465812" y="548321"/>
                </a:lnTo>
                <a:lnTo>
                  <a:pt x="506407" y="576764"/>
                </a:lnTo>
                <a:lnTo>
                  <a:pt x="547623" y="604296"/>
                </a:lnTo>
                <a:lnTo>
                  <a:pt x="589443" y="630904"/>
                </a:lnTo>
                <a:lnTo>
                  <a:pt x="631852" y="656580"/>
                </a:lnTo>
                <a:lnTo>
                  <a:pt x="674835" y="681312"/>
                </a:lnTo>
                <a:lnTo>
                  <a:pt x="718376" y="705091"/>
                </a:lnTo>
                <a:lnTo>
                  <a:pt x="762460" y="727905"/>
                </a:lnTo>
                <a:lnTo>
                  <a:pt x="807071" y="749744"/>
                </a:lnTo>
                <a:lnTo>
                  <a:pt x="852193" y="770599"/>
                </a:lnTo>
                <a:lnTo>
                  <a:pt x="897811" y="790459"/>
                </a:lnTo>
                <a:lnTo>
                  <a:pt x="943909" y="809313"/>
                </a:lnTo>
                <a:lnTo>
                  <a:pt x="990473" y="827150"/>
                </a:lnTo>
                <a:lnTo>
                  <a:pt x="1076833" y="593851"/>
                </a:lnTo>
                <a:lnTo>
                  <a:pt x="1029827" y="575760"/>
                </a:lnTo>
                <a:lnTo>
                  <a:pt x="983355" y="556503"/>
                </a:lnTo>
                <a:lnTo>
                  <a:pt x="937437" y="536094"/>
                </a:lnTo>
                <a:lnTo>
                  <a:pt x="892094" y="514547"/>
                </a:lnTo>
                <a:lnTo>
                  <a:pt x="847346" y="491874"/>
                </a:lnTo>
                <a:lnTo>
                  <a:pt x="803213" y="468089"/>
                </a:lnTo>
                <a:lnTo>
                  <a:pt x="759718" y="443204"/>
                </a:lnTo>
                <a:lnTo>
                  <a:pt x="716879" y="417234"/>
                </a:lnTo>
                <a:lnTo>
                  <a:pt x="674719" y="390191"/>
                </a:lnTo>
                <a:lnTo>
                  <a:pt x="633257" y="362089"/>
                </a:lnTo>
                <a:lnTo>
                  <a:pt x="592514" y="332940"/>
                </a:lnTo>
                <a:lnTo>
                  <a:pt x="552511" y="302758"/>
                </a:lnTo>
                <a:lnTo>
                  <a:pt x="513268" y="271556"/>
                </a:lnTo>
                <a:lnTo>
                  <a:pt x="491089" y="252983"/>
                </a:lnTo>
                <a:close/>
              </a:path>
              <a:path w="1076960" h="827404">
                <a:moveTo>
                  <a:pt x="460121" y="0"/>
                </a:moveTo>
                <a:lnTo>
                  <a:pt x="97155" y="20446"/>
                </a:lnTo>
                <a:lnTo>
                  <a:pt x="0" y="353821"/>
                </a:lnTo>
                <a:lnTo>
                  <a:pt x="130937" y="252983"/>
                </a:lnTo>
                <a:lnTo>
                  <a:pt x="491089" y="252983"/>
                </a:lnTo>
                <a:lnTo>
                  <a:pt x="437146" y="206146"/>
                </a:lnTo>
                <a:lnTo>
                  <a:pt x="400309" y="171963"/>
                </a:lnTo>
                <a:lnTo>
                  <a:pt x="364314" y="136814"/>
                </a:lnTo>
                <a:lnTo>
                  <a:pt x="329183" y="100710"/>
                </a:lnTo>
                <a:lnTo>
                  <a:pt x="460121" y="0"/>
                </a:lnTo>
                <a:close/>
              </a:path>
            </a:pathLst>
          </a:custGeom>
          <a:solidFill>
            <a:srgbClr val="f79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bject 16"/>
          <p:cNvSpPr/>
          <p:nvPr/>
        </p:nvSpPr>
        <p:spPr>
          <a:xfrm>
            <a:off x="2828880" y="4653000"/>
            <a:ext cx="1076400" cy="826920"/>
          </a:xfrm>
          <a:custGeom>
            <a:avLst/>
            <a:gdLst>
              <a:gd name="textAreaLeft" fmla="*/ 0 w 1076400"/>
              <a:gd name="textAreaRight" fmla="*/ 1076760 w 1076400"/>
              <a:gd name="textAreaTop" fmla="*/ 0 h 826920"/>
              <a:gd name="textAreaBottom" fmla="*/ 827280 h 826920"/>
            </a:gdLst>
            <a:ahLst/>
            <a:rect l="textAreaLeft" t="textAreaTop" r="textAreaRight" b="textAreaBottom"/>
            <a:pathLst>
              <a:path w="1076960" h="827404">
                <a:moveTo>
                  <a:pt x="990473" y="827150"/>
                </a:moveTo>
                <a:lnTo>
                  <a:pt x="943909" y="809313"/>
                </a:lnTo>
                <a:lnTo>
                  <a:pt x="897811" y="790459"/>
                </a:lnTo>
                <a:lnTo>
                  <a:pt x="852193" y="770599"/>
                </a:lnTo>
                <a:lnTo>
                  <a:pt x="807071" y="749744"/>
                </a:lnTo>
                <a:lnTo>
                  <a:pt x="762460" y="727905"/>
                </a:lnTo>
                <a:lnTo>
                  <a:pt x="718376" y="705091"/>
                </a:lnTo>
                <a:lnTo>
                  <a:pt x="674835" y="681312"/>
                </a:lnTo>
                <a:lnTo>
                  <a:pt x="631852" y="656580"/>
                </a:lnTo>
                <a:lnTo>
                  <a:pt x="589443" y="630904"/>
                </a:lnTo>
                <a:lnTo>
                  <a:pt x="547623" y="604296"/>
                </a:lnTo>
                <a:lnTo>
                  <a:pt x="506407" y="576764"/>
                </a:lnTo>
                <a:lnTo>
                  <a:pt x="465812" y="548321"/>
                </a:lnTo>
                <a:lnTo>
                  <a:pt x="425853" y="518975"/>
                </a:lnTo>
                <a:lnTo>
                  <a:pt x="386545" y="488738"/>
                </a:lnTo>
                <a:lnTo>
                  <a:pt x="347904" y="457619"/>
                </a:lnTo>
                <a:lnTo>
                  <a:pt x="309946" y="425630"/>
                </a:lnTo>
                <a:lnTo>
                  <a:pt x="272686" y="392780"/>
                </a:lnTo>
                <a:lnTo>
                  <a:pt x="236139" y="359080"/>
                </a:lnTo>
                <a:lnTo>
                  <a:pt x="200322" y="324541"/>
                </a:lnTo>
                <a:lnTo>
                  <a:pt x="165249" y="289172"/>
                </a:lnTo>
                <a:lnTo>
                  <a:pt x="130937" y="252983"/>
                </a:lnTo>
                <a:lnTo>
                  <a:pt x="0" y="353821"/>
                </a:lnTo>
                <a:lnTo>
                  <a:pt x="97155" y="20446"/>
                </a:lnTo>
                <a:lnTo>
                  <a:pt x="460121" y="0"/>
                </a:lnTo>
                <a:lnTo>
                  <a:pt x="329183" y="100710"/>
                </a:lnTo>
                <a:lnTo>
                  <a:pt x="364314" y="136814"/>
                </a:lnTo>
                <a:lnTo>
                  <a:pt x="400309" y="171963"/>
                </a:lnTo>
                <a:lnTo>
                  <a:pt x="437146" y="206146"/>
                </a:lnTo>
                <a:lnTo>
                  <a:pt x="474806" y="239348"/>
                </a:lnTo>
                <a:lnTo>
                  <a:pt x="513268" y="271556"/>
                </a:lnTo>
                <a:lnTo>
                  <a:pt x="552511" y="302758"/>
                </a:lnTo>
                <a:lnTo>
                  <a:pt x="592514" y="332940"/>
                </a:lnTo>
                <a:lnTo>
                  <a:pt x="633257" y="362089"/>
                </a:lnTo>
                <a:lnTo>
                  <a:pt x="674719" y="390191"/>
                </a:lnTo>
                <a:lnTo>
                  <a:pt x="716879" y="417234"/>
                </a:lnTo>
                <a:lnTo>
                  <a:pt x="759718" y="443204"/>
                </a:lnTo>
                <a:lnTo>
                  <a:pt x="803213" y="468089"/>
                </a:lnTo>
                <a:lnTo>
                  <a:pt x="847346" y="491874"/>
                </a:lnTo>
                <a:lnTo>
                  <a:pt x="892094" y="514547"/>
                </a:lnTo>
                <a:lnTo>
                  <a:pt x="937437" y="536094"/>
                </a:lnTo>
                <a:lnTo>
                  <a:pt x="983355" y="556503"/>
                </a:lnTo>
                <a:lnTo>
                  <a:pt x="1029827" y="575760"/>
                </a:lnTo>
                <a:lnTo>
                  <a:pt x="1076833" y="593851"/>
                </a:lnTo>
                <a:lnTo>
                  <a:pt x="990473" y="82715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bject 17"/>
          <p:cNvSpPr/>
          <p:nvPr/>
        </p:nvSpPr>
        <p:spPr>
          <a:xfrm>
            <a:off x="1935000" y="3409920"/>
            <a:ext cx="1276560" cy="1276560"/>
          </a:xfrm>
          <a:custGeom>
            <a:avLst/>
            <a:gdLst/>
            <a:ahLst/>
            <a:rect l="l" t="t" r="r" b="b"/>
            <a:pathLst>
              <a:path w="1275714" h="1275714">
                <a:moveTo>
                  <a:pt x="0" y="212598"/>
                </a:moveTo>
                <a:lnTo>
                  <a:pt x="5618" y="163832"/>
                </a:lnTo>
                <a:lnTo>
                  <a:pt x="21620" y="119076"/>
                </a:lnTo>
                <a:lnTo>
                  <a:pt x="46726" y="79603"/>
                </a:lnTo>
                <a:lnTo>
                  <a:pt x="79656" y="46686"/>
                </a:lnTo>
                <a:lnTo>
                  <a:pt x="119131" y="21598"/>
                </a:lnTo>
                <a:lnTo>
                  <a:pt x="163872" y="5611"/>
                </a:lnTo>
                <a:lnTo>
                  <a:pt x="212597" y="0"/>
                </a:lnTo>
                <a:lnTo>
                  <a:pt x="1062989" y="0"/>
                </a:lnTo>
                <a:lnTo>
                  <a:pt x="1111755" y="5611"/>
                </a:lnTo>
                <a:lnTo>
                  <a:pt x="1156511" y="21598"/>
                </a:lnTo>
                <a:lnTo>
                  <a:pt x="1195984" y="46686"/>
                </a:lnTo>
                <a:lnTo>
                  <a:pt x="1228901" y="79603"/>
                </a:lnTo>
                <a:lnTo>
                  <a:pt x="1253989" y="119076"/>
                </a:lnTo>
                <a:lnTo>
                  <a:pt x="1269976" y="163832"/>
                </a:lnTo>
                <a:lnTo>
                  <a:pt x="1275588" y="212598"/>
                </a:lnTo>
                <a:lnTo>
                  <a:pt x="1275588" y="1062989"/>
                </a:lnTo>
                <a:lnTo>
                  <a:pt x="1269976" y="1111715"/>
                </a:lnTo>
                <a:lnTo>
                  <a:pt x="1253989" y="1156456"/>
                </a:lnTo>
                <a:lnTo>
                  <a:pt x="1228901" y="1195931"/>
                </a:lnTo>
                <a:lnTo>
                  <a:pt x="1195984" y="1228861"/>
                </a:lnTo>
                <a:lnTo>
                  <a:pt x="1156511" y="1253967"/>
                </a:lnTo>
                <a:lnTo>
                  <a:pt x="1111755" y="1269969"/>
                </a:lnTo>
                <a:lnTo>
                  <a:pt x="1062989" y="1275588"/>
                </a:lnTo>
                <a:lnTo>
                  <a:pt x="212597" y="1275588"/>
                </a:lnTo>
                <a:lnTo>
                  <a:pt x="163872" y="1269969"/>
                </a:lnTo>
                <a:lnTo>
                  <a:pt x="119131" y="1253967"/>
                </a:lnTo>
                <a:lnTo>
                  <a:pt x="79656" y="1228861"/>
                </a:lnTo>
                <a:lnTo>
                  <a:pt x="46726" y="1195931"/>
                </a:lnTo>
                <a:lnTo>
                  <a:pt x="21620" y="1156456"/>
                </a:lnTo>
                <a:lnTo>
                  <a:pt x="5618" y="1111715"/>
                </a:lnTo>
                <a:lnTo>
                  <a:pt x="0" y="1062989"/>
                </a:lnTo>
                <a:lnTo>
                  <a:pt x="0" y="212598"/>
                </a:lnTo>
                <a:close/>
              </a:path>
            </a:pathLst>
          </a:custGeom>
          <a:noFill/>
          <a:ln w="9360">
            <a:solidFill>
              <a:srgbClr val="ef6f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bject 18"/>
          <p:cNvSpPr/>
          <p:nvPr/>
        </p:nvSpPr>
        <p:spPr>
          <a:xfrm>
            <a:off x="2022480" y="3451320"/>
            <a:ext cx="11016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0600">
              <a:lnSpc>
                <a:spcPts val="1562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ou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>
              <a:lnSpc>
                <a:spcPts val="14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algn="ctr">
              <a:lnSpc>
                <a:spcPct val="86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erprises to  input data for  benchmark  cre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bject 19"/>
          <p:cNvSpPr/>
          <p:nvPr/>
        </p:nvSpPr>
        <p:spPr>
          <a:xfrm>
            <a:off x="2367000" y="2408400"/>
            <a:ext cx="549360" cy="1002960"/>
          </a:xfrm>
          <a:custGeom>
            <a:avLst/>
            <a:gdLst>
              <a:gd name="textAreaLeft" fmla="*/ 0 w 549360"/>
              <a:gd name="textAreaRight" fmla="*/ 549720 w 549360"/>
              <a:gd name="textAreaTop" fmla="*/ 0 h 1002960"/>
              <a:gd name="textAreaBottom" fmla="*/ 1003320 h 1002960"/>
            </a:gdLst>
            <a:ahLst/>
            <a:rect l="textAreaLeft" t="textAreaTop" r="textAreaRight" b="textAreaBottom"/>
            <a:pathLst>
              <a:path w="550544" h="1002664">
                <a:moveTo>
                  <a:pt x="386969" y="0"/>
                </a:moveTo>
                <a:lnTo>
                  <a:pt x="42544" y="43814"/>
                </a:lnTo>
                <a:lnTo>
                  <a:pt x="187198" y="123825"/>
                </a:lnTo>
                <a:lnTo>
                  <a:pt x="167518" y="170125"/>
                </a:lnTo>
                <a:lnTo>
                  <a:pt x="148910" y="216810"/>
                </a:lnTo>
                <a:lnTo>
                  <a:pt x="131377" y="263863"/>
                </a:lnTo>
                <a:lnTo>
                  <a:pt x="114923" y="311264"/>
                </a:lnTo>
                <a:lnTo>
                  <a:pt x="99552" y="358994"/>
                </a:lnTo>
                <a:lnTo>
                  <a:pt x="85268" y="407035"/>
                </a:lnTo>
                <a:lnTo>
                  <a:pt x="72075" y="455367"/>
                </a:lnTo>
                <a:lnTo>
                  <a:pt x="59975" y="503972"/>
                </a:lnTo>
                <a:lnTo>
                  <a:pt x="48974" y="552831"/>
                </a:lnTo>
                <a:lnTo>
                  <a:pt x="39074" y="601925"/>
                </a:lnTo>
                <a:lnTo>
                  <a:pt x="30281" y="651235"/>
                </a:lnTo>
                <a:lnTo>
                  <a:pt x="22596" y="700743"/>
                </a:lnTo>
                <a:lnTo>
                  <a:pt x="16025" y="750430"/>
                </a:lnTo>
                <a:lnTo>
                  <a:pt x="10571" y="800277"/>
                </a:lnTo>
                <a:lnTo>
                  <a:pt x="6237" y="850265"/>
                </a:lnTo>
                <a:lnTo>
                  <a:pt x="3028" y="900375"/>
                </a:lnTo>
                <a:lnTo>
                  <a:pt x="947" y="950612"/>
                </a:lnTo>
                <a:lnTo>
                  <a:pt x="0" y="1000887"/>
                </a:lnTo>
                <a:lnTo>
                  <a:pt x="248666" y="1002664"/>
                </a:lnTo>
                <a:lnTo>
                  <a:pt x="249756" y="950588"/>
                </a:lnTo>
                <a:lnTo>
                  <a:pt x="252208" y="898665"/>
                </a:lnTo>
                <a:lnTo>
                  <a:pt x="256019" y="846848"/>
                </a:lnTo>
                <a:lnTo>
                  <a:pt x="261184" y="795188"/>
                </a:lnTo>
                <a:lnTo>
                  <a:pt x="267697" y="743712"/>
                </a:lnTo>
                <a:lnTo>
                  <a:pt x="275553" y="692445"/>
                </a:lnTo>
                <a:lnTo>
                  <a:pt x="284748" y="641415"/>
                </a:lnTo>
                <a:lnTo>
                  <a:pt x="295276" y="590648"/>
                </a:lnTo>
                <a:lnTo>
                  <a:pt x="307132" y="540170"/>
                </a:lnTo>
                <a:lnTo>
                  <a:pt x="320312" y="490008"/>
                </a:lnTo>
                <a:lnTo>
                  <a:pt x="334811" y="440188"/>
                </a:lnTo>
                <a:lnTo>
                  <a:pt x="350623" y="390736"/>
                </a:lnTo>
                <a:lnTo>
                  <a:pt x="367744" y="341679"/>
                </a:lnTo>
                <a:lnTo>
                  <a:pt x="386168" y="293043"/>
                </a:lnTo>
                <a:lnTo>
                  <a:pt x="405892" y="244856"/>
                </a:lnTo>
                <a:lnTo>
                  <a:pt x="510210" y="244856"/>
                </a:lnTo>
                <a:lnTo>
                  <a:pt x="386969" y="0"/>
                </a:lnTo>
                <a:close/>
              </a:path>
              <a:path w="550544" h="1002664">
                <a:moveTo>
                  <a:pt x="510210" y="244856"/>
                </a:moveTo>
                <a:lnTo>
                  <a:pt x="405892" y="244856"/>
                </a:lnTo>
                <a:lnTo>
                  <a:pt x="550418" y="324738"/>
                </a:lnTo>
                <a:lnTo>
                  <a:pt x="510210" y="244856"/>
                </a:lnTo>
                <a:close/>
              </a:path>
            </a:pathLst>
          </a:custGeom>
          <a:solidFill>
            <a:srgbClr val="f79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bject 20"/>
          <p:cNvSpPr/>
          <p:nvPr/>
        </p:nvSpPr>
        <p:spPr>
          <a:xfrm>
            <a:off x="2367000" y="2408400"/>
            <a:ext cx="549360" cy="1002960"/>
          </a:xfrm>
          <a:custGeom>
            <a:avLst/>
            <a:gdLst>
              <a:gd name="textAreaLeft" fmla="*/ 0 w 549360"/>
              <a:gd name="textAreaRight" fmla="*/ 549720 w 549360"/>
              <a:gd name="textAreaTop" fmla="*/ 0 h 1002960"/>
              <a:gd name="textAreaBottom" fmla="*/ 1003320 h 1002960"/>
            </a:gdLst>
            <a:ahLst/>
            <a:rect l="textAreaLeft" t="textAreaTop" r="textAreaRight" b="textAreaBottom"/>
            <a:pathLst>
              <a:path w="550544" h="1002664">
                <a:moveTo>
                  <a:pt x="0" y="1000887"/>
                </a:moveTo>
                <a:lnTo>
                  <a:pt x="948" y="950588"/>
                </a:lnTo>
                <a:lnTo>
                  <a:pt x="3028" y="900375"/>
                </a:lnTo>
                <a:lnTo>
                  <a:pt x="6237" y="850265"/>
                </a:lnTo>
                <a:lnTo>
                  <a:pt x="10571" y="800277"/>
                </a:lnTo>
                <a:lnTo>
                  <a:pt x="16025" y="750430"/>
                </a:lnTo>
                <a:lnTo>
                  <a:pt x="22596" y="700743"/>
                </a:lnTo>
                <a:lnTo>
                  <a:pt x="30281" y="651235"/>
                </a:lnTo>
                <a:lnTo>
                  <a:pt x="39074" y="601925"/>
                </a:lnTo>
                <a:lnTo>
                  <a:pt x="48974" y="552831"/>
                </a:lnTo>
                <a:lnTo>
                  <a:pt x="59975" y="503972"/>
                </a:lnTo>
                <a:lnTo>
                  <a:pt x="72075" y="455367"/>
                </a:lnTo>
                <a:lnTo>
                  <a:pt x="85268" y="407035"/>
                </a:lnTo>
                <a:lnTo>
                  <a:pt x="99552" y="358994"/>
                </a:lnTo>
                <a:lnTo>
                  <a:pt x="114923" y="311264"/>
                </a:lnTo>
                <a:lnTo>
                  <a:pt x="131377" y="263863"/>
                </a:lnTo>
                <a:lnTo>
                  <a:pt x="148910" y="216810"/>
                </a:lnTo>
                <a:lnTo>
                  <a:pt x="167518" y="170125"/>
                </a:lnTo>
                <a:lnTo>
                  <a:pt x="187198" y="123825"/>
                </a:lnTo>
                <a:lnTo>
                  <a:pt x="42544" y="43814"/>
                </a:lnTo>
                <a:lnTo>
                  <a:pt x="386969" y="0"/>
                </a:lnTo>
                <a:lnTo>
                  <a:pt x="550418" y="324738"/>
                </a:lnTo>
                <a:lnTo>
                  <a:pt x="405892" y="244856"/>
                </a:lnTo>
                <a:lnTo>
                  <a:pt x="386168" y="293043"/>
                </a:lnTo>
                <a:lnTo>
                  <a:pt x="367744" y="341679"/>
                </a:lnTo>
                <a:lnTo>
                  <a:pt x="350623" y="390736"/>
                </a:lnTo>
                <a:lnTo>
                  <a:pt x="334811" y="440188"/>
                </a:lnTo>
                <a:lnTo>
                  <a:pt x="320312" y="490008"/>
                </a:lnTo>
                <a:lnTo>
                  <a:pt x="307132" y="540170"/>
                </a:lnTo>
                <a:lnTo>
                  <a:pt x="295276" y="590648"/>
                </a:lnTo>
                <a:lnTo>
                  <a:pt x="284748" y="641415"/>
                </a:lnTo>
                <a:lnTo>
                  <a:pt x="275553" y="692445"/>
                </a:lnTo>
                <a:lnTo>
                  <a:pt x="267697" y="743712"/>
                </a:lnTo>
                <a:lnTo>
                  <a:pt x="261184" y="795188"/>
                </a:lnTo>
                <a:lnTo>
                  <a:pt x="256019" y="846848"/>
                </a:lnTo>
                <a:lnTo>
                  <a:pt x="252208" y="898665"/>
                </a:lnTo>
                <a:lnTo>
                  <a:pt x="249755" y="950612"/>
                </a:lnTo>
                <a:lnTo>
                  <a:pt x="248666" y="1002664"/>
                </a:lnTo>
                <a:lnTo>
                  <a:pt x="0" y="1000887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ject 21"/>
          <p:cNvSpPr/>
          <p:nvPr/>
        </p:nvSpPr>
        <p:spPr>
          <a:xfrm>
            <a:off x="2622600" y="1122480"/>
            <a:ext cx="1274760" cy="12762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1276200"/>
              <a:gd name="textAreaBottom" fmla="*/ 1276560 h 1276200"/>
            </a:gdLst>
            <a:ahLst/>
            <a:rect l="textAreaLeft" t="textAreaTop" r="textAreaRight" b="textAreaBottom"/>
            <a:pathLst>
              <a:path w="1275714" h="1275714">
                <a:moveTo>
                  <a:pt x="0" y="212598"/>
                </a:moveTo>
                <a:lnTo>
                  <a:pt x="5611" y="163872"/>
                </a:lnTo>
                <a:lnTo>
                  <a:pt x="21598" y="119131"/>
                </a:lnTo>
                <a:lnTo>
                  <a:pt x="46686" y="79656"/>
                </a:lnTo>
                <a:lnTo>
                  <a:pt x="79603" y="46726"/>
                </a:lnTo>
                <a:lnTo>
                  <a:pt x="119076" y="21620"/>
                </a:lnTo>
                <a:lnTo>
                  <a:pt x="163832" y="5618"/>
                </a:lnTo>
                <a:lnTo>
                  <a:pt x="212597" y="0"/>
                </a:lnTo>
                <a:lnTo>
                  <a:pt x="1062990" y="0"/>
                </a:lnTo>
                <a:lnTo>
                  <a:pt x="1111715" y="5618"/>
                </a:lnTo>
                <a:lnTo>
                  <a:pt x="1156456" y="21620"/>
                </a:lnTo>
                <a:lnTo>
                  <a:pt x="1195931" y="46726"/>
                </a:lnTo>
                <a:lnTo>
                  <a:pt x="1228861" y="79656"/>
                </a:lnTo>
                <a:lnTo>
                  <a:pt x="1253967" y="119131"/>
                </a:lnTo>
                <a:lnTo>
                  <a:pt x="1269969" y="163872"/>
                </a:lnTo>
                <a:lnTo>
                  <a:pt x="1275587" y="212598"/>
                </a:lnTo>
                <a:lnTo>
                  <a:pt x="1275587" y="1062990"/>
                </a:lnTo>
                <a:lnTo>
                  <a:pt x="1269969" y="1111755"/>
                </a:lnTo>
                <a:lnTo>
                  <a:pt x="1253967" y="1156511"/>
                </a:lnTo>
                <a:lnTo>
                  <a:pt x="1228861" y="1195984"/>
                </a:lnTo>
                <a:lnTo>
                  <a:pt x="1195931" y="1228901"/>
                </a:lnTo>
                <a:lnTo>
                  <a:pt x="1156456" y="1253989"/>
                </a:lnTo>
                <a:lnTo>
                  <a:pt x="1111715" y="1269976"/>
                </a:lnTo>
                <a:lnTo>
                  <a:pt x="1062990" y="1275588"/>
                </a:lnTo>
                <a:lnTo>
                  <a:pt x="212597" y="1275588"/>
                </a:lnTo>
                <a:lnTo>
                  <a:pt x="163832" y="1269976"/>
                </a:lnTo>
                <a:lnTo>
                  <a:pt x="119076" y="1253989"/>
                </a:lnTo>
                <a:lnTo>
                  <a:pt x="79603" y="1228901"/>
                </a:lnTo>
                <a:lnTo>
                  <a:pt x="46686" y="1195984"/>
                </a:lnTo>
                <a:lnTo>
                  <a:pt x="21598" y="1156511"/>
                </a:lnTo>
                <a:lnTo>
                  <a:pt x="5611" y="1111755"/>
                </a:lnTo>
                <a:lnTo>
                  <a:pt x="0" y="1062990"/>
                </a:lnTo>
                <a:lnTo>
                  <a:pt x="0" y="212598"/>
                </a:lnTo>
                <a:close/>
              </a:path>
            </a:pathLst>
          </a:custGeom>
          <a:noFill/>
          <a:ln w="9360">
            <a:solidFill>
              <a:srgbClr val="ef6f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bject 22"/>
          <p:cNvSpPr/>
          <p:nvPr/>
        </p:nvSpPr>
        <p:spPr>
          <a:xfrm>
            <a:off x="2727360" y="1255680"/>
            <a:ext cx="1065240" cy="11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t">
            <a:spAutoFit/>
          </a:bodyPr>
          <a:p>
            <a:pPr marL="12600" algn="ctr">
              <a:lnSpc>
                <a:spcPct val="86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aborate  with financial  institutions to  drive usage  of the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bject 23"/>
          <p:cNvSpPr/>
          <p:nvPr/>
        </p:nvSpPr>
        <p:spPr>
          <a:xfrm>
            <a:off x="3862440" y="1081080"/>
            <a:ext cx="1420920" cy="54936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1421129" h="549910">
                <a:moveTo>
                  <a:pt x="1402954" y="344811"/>
                </a:moveTo>
                <a:lnTo>
                  <a:pt x="729955" y="344811"/>
                </a:lnTo>
                <a:lnTo>
                  <a:pt x="780574" y="345002"/>
                </a:lnTo>
                <a:lnTo>
                  <a:pt x="831196" y="346488"/>
                </a:lnTo>
                <a:lnTo>
                  <a:pt x="881796" y="349273"/>
                </a:lnTo>
                <a:lnTo>
                  <a:pt x="932348" y="353357"/>
                </a:lnTo>
                <a:lnTo>
                  <a:pt x="982827" y="358742"/>
                </a:lnTo>
                <a:lnTo>
                  <a:pt x="1033208" y="365429"/>
                </a:lnTo>
                <a:lnTo>
                  <a:pt x="1083466" y="373419"/>
                </a:lnTo>
                <a:lnTo>
                  <a:pt x="1133576" y="382716"/>
                </a:lnTo>
                <a:lnTo>
                  <a:pt x="1183513" y="393319"/>
                </a:lnTo>
                <a:lnTo>
                  <a:pt x="1130680" y="549910"/>
                </a:lnTo>
                <a:lnTo>
                  <a:pt x="1402954" y="344811"/>
                </a:lnTo>
                <a:close/>
              </a:path>
              <a:path w="1421129" h="549910">
                <a:moveTo>
                  <a:pt x="725150" y="96096"/>
                </a:moveTo>
                <a:lnTo>
                  <a:pt x="675966" y="97138"/>
                </a:lnTo>
                <a:lnTo>
                  <a:pt x="626824" y="99266"/>
                </a:lnTo>
                <a:lnTo>
                  <a:pt x="577740" y="102479"/>
                </a:lnTo>
                <a:lnTo>
                  <a:pt x="528735" y="106776"/>
                </a:lnTo>
                <a:lnTo>
                  <a:pt x="479824" y="112156"/>
                </a:lnTo>
                <a:lnTo>
                  <a:pt x="431028" y="118617"/>
                </a:lnTo>
                <a:lnTo>
                  <a:pt x="382364" y="126160"/>
                </a:lnTo>
                <a:lnTo>
                  <a:pt x="333850" y="134783"/>
                </a:lnTo>
                <a:lnTo>
                  <a:pt x="285505" y="144485"/>
                </a:lnTo>
                <a:lnTo>
                  <a:pt x="237347" y="155264"/>
                </a:lnTo>
                <a:lnTo>
                  <a:pt x="189394" y="167121"/>
                </a:lnTo>
                <a:lnTo>
                  <a:pt x="141665" y="180054"/>
                </a:lnTo>
                <a:lnTo>
                  <a:pt x="94177" y="194061"/>
                </a:lnTo>
                <a:lnTo>
                  <a:pt x="46949" y="209143"/>
                </a:lnTo>
                <a:lnTo>
                  <a:pt x="0" y="225298"/>
                </a:lnTo>
                <a:lnTo>
                  <a:pt x="83565" y="459613"/>
                </a:lnTo>
                <a:lnTo>
                  <a:pt x="131866" y="443088"/>
                </a:lnTo>
                <a:lnTo>
                  <a:pt x="180495" y="427840"/>
                </a:lnTo>
                <a:lnTo>
                  <a:pt x="229428" y="413871"/>
                </a:lnTo>
                <a:lnTo>
                  <a:pt x="278640" y="401181"/>
                </a:lnTo>
                <a:lnTo>
                  <a:pt x="328106" y="389773"/>
                </a:lnTo>
                <a:lnTo>
                  <a:pt x="377801" y="379647"/>
                </a:lnTo>
                <a:lnTo>
                  <a:pt x="427699" y="370806"/>
                </a:lnTo>
                <a:lnTo>
                  <a:pt x="477775" y="363250"/>
                </a:lnTo>
                <a:lnTo>
                  <a:pt x="528005" y="356982"/>
                </a:lnTo>
                <a:lnTo>
                  <a:pt x="578363" y="352002"/>
                </a:lnTo>
                <a:lnTo>
                  <a:pt x="628824" y="348313"/>
                </a:lnTo>
                <a:lnTo>
                  <a:pt x="679363" y="345915"/>
                </a:lnTo>
                <a:lnTo>
                  <a:pt x="729955" y="344811"/>
                </a:lnTo>
                <a:lnTo>
                  <a:pt x="1402954" y="344811"/>
                </a:lnTo>
                <a:lnTo>
                  <a:pt x="1421002" y="331215"/>
                </a:lnTo>
                <a:lnTo>
                  <a:pt x="1365963" y="156590"/>
                </a:lnTo>
                <a:lnTo>
                  <a:pt x="1263650" y="156590"/>
                </a:lnTo>
                <a:lnTo>
                  <a:pt x="1215220" y="145621"/>
                </a:lnTo>
                <a:lnTo>
                  <a:pt x="1166632" y="135749"/>
                </a:lnTo>
                <a:lnTo>
                  <a:pt x="1117901" y="126973"/>
                </a:lnTo>
                <a:lnTo>
                  <a:pt x="1069047" y="119291"/>
                </a:lnTo>
                <a:lnTo>
                  <a:pt x="1020088" y="112704"/>
                </a:lnTo>
                <a:lnTo>
                  <a:pt x="971043" y="107209"/>
                </a:lnTo>
                <a:lnTo>
                  <a:pt x="921928" y="102807"/>
                </a:lnTo>
                <a:lnTo>
                  <a:pt x="872764" y="99495"/>
                </a:lnTo>
                <a:lnTo>
                  <a:pt x="823567" y="97273"/>
                </a:lnTo>
                <a:lnTo>
                  <a:pt x="774356" y="96141"/>
                </a:lnTo>
                <a:lnTo>
                  <a:pt x="725150" y="96096"/>
                </a:lnTo>
                <a:close/>
              </a:path>
              <a:path w="1421129" h="549910">
                <a:moveTo>
                  <a:pt x="1316608" y="0"/>
                </a:moveTo>
                <a:lnTo>
                  <a:pt x="1263650" y="156590"/>
                </a:lnTo>
                <a:lnTo>
                  <a:pt x="1365963" y="156590"/>
                </a:lnTo>
                <a:lnTo>
                  <a:pt x="1316608" y="0"/>
                </a:lnTo>
                <a:close/>
              </a:path>
            </a:pathLst>
          </a:custGeom>
          <a:solidFill>
            <a:srgbClr val="f795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bject 24"/>
          <p:cNvSpPr/>
          <p:nvPr/>
        </p:nvSpPr>
        <p:spPr>
          <a:xfrm>
            <a:off x="3862440" y="1081080"/>
            <a:ext cx="1420920" cy="54936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1421129" h="549910">
                <a:moveTo>
                  <a:pt x="0" y="225298"/>
                </a:moveTo>
                <a:lnTo>
                  <a:pt x="46949" y="209143"/>
                </a:lnTo>
                <a:lnTo>
                  <a:pt x="94177" y="194061"/>
                </a:lnTo>
                <a:lnTo>
                  <a:pt x="141665" y="180054"/>
                </a:lnTo>
                <a:lnTo>
                  <a:pt x="189394" y="167121"/>
                </a:lnTo>
                <a:lnTo>
                  <a:pt x="237347" y="155264"/>
                </a:lnTo>
                <a:lnTo>
                  <a:pt x="285505" y="144485"/>
                </a:lnTo>
                <a:lnTo>
                  <a:pt x="333850" y="134783"/>
                </a:lnTo>
                <a:lnTo>
                  <a:pt x="382364" y="126160"/>
                </a:lnTo>
                <a:lnTo>
                  <a:pt x="431028" y="118617"/>
                </a:lnTo>
                <a:lnTo>
                  <a:pt x="479824" y="112156"/>
                </a:lnTo>
                <a:lnTo>
                  <a:pt x="528735" y="106776"/>
                </a:lnTo>
                <a:lnTo>
                  <a:pt x="577740" y="102479"/>
                </a:lnTo>
                <a:lnTo>
                  <a:pt x="626824" y="99266"/>
                </a:lnTo>
                <a:lnTo>
                  <a:pt x="675966" y="97138"/>
                </a:lnTo>
                <a:lnTo>
                  <a:pt x="725150" y="96096"/>
                </a:lnTo>
                <a:lnTo>
                  <a:pt x="774356" y="96141"/>
                </a:lnTo>
                <a:lnTo>
                  <a:pt x="823567" y="97273"/>
                </a:lnTo>
                <a:lnTo>
                  <a:pt x="872764" y="99495"/>
                </a:lnTo>
                <a:lnTo>
                  <a:pt x="921928" y="102807"/>
                </a:lnTo>
                <a:lnTo>
                  <a:pt x="971043" y="107209"/>
                </a:lnTo>
                <a:lnTo>
                  <a:pt x="1020088" y="112704"/>
                </a:lnTo>
                <a:lnTo>
                  <a:pt x="1069047" y="119291"/>
                </a:lnTo>
                <a:lnTo>
                  <a:pt x="1117901" y="126973"/>
                </a:lnTo>
                <a:lnTo>
                  <a:pt x="1166632" y="135749"/>
                </a:lnTo>
                <a:lnTo>
                  <a:pt x="1215220" y="145621"/>
                </a:lnTo>
                <a:lnTo>
                  <a:pt x="1263650" y="156590"/>
                </a:lnTo>
                <a:lnTo>
                  <a:pt x="1316608" y="0"/>
                </a:lnTo>
                <a:lnTo>
                  <a:pt x="1421002" y="331215"/>
                </a:lnTo>
                <a:lnTo>
                  <a:pt x="1130680" y="549910"/>
                </a:lnTo>
                <a:lnTo>
                  <a:pt x="1183513" y="393319"/>
                </a:lnTo>
                <a:lnTo>
                  <a:pt x="1133576" y="382716"/>
                </a:lnTo>
                <a:lnTo>
                  <a:pt x="1083466" y="373419"/>
                </a:lnTo>
                <a:lnTo>
                  <a:pt x="1033208" y="365429"/>
                </a:lnTo>
                <a:lnTo>
                  <a:pt x="982827" y="358742"/>
                </a:lnTo>
                <a:lnTo>
                  <a:pt x="932348" y="353357"/>
                </a:lnTo>
                <a:lnTo>
                  <a:pt x="881796" y="349273"/>
                </a:lnTo>
                <a:lnTo>
                  <a:pt x="831196" y="346488"/>
                </a:lnTo>
                <a:lnTo>
                  <a:pt x="780574" y="345002"/>
                </a:lnTo>
                <a:lnTo>
                  <a:pt x="729955" y="344811"/>
                </a:lnTo>
                <a:lnTo>
                  <a:pt x="679363" y="345915"/>
                </a:lnTo>
                <a:lnTo>
                  <a:pt x="628824" y="348313"/>
                </a:lnTo>
                <a:lnTo>
                  <a:pt x="578363" y="352002"/>
                </a:lnTo>
                <a:lnTo>
                  <a:pt x="528005" y="356982"/>
                </a:lnTo>
                <a:lnTo>
                  <a:pt x="477775" y="363250"/>
                </a:lnTo>
                <a:lnTo>
                  <a:pt x="427699" y="370806"/>
                </a:lnTo>
                <a:lnTo>
                  <a:pt x="377801" y="379647"/>
                </a:lnTo>
                <a:lnTo>
                  <a:pt x="328106" y="389773"/>
                </a:lnTo>
                <a:lnTo>
                  <a:pt x="278640" y="401181"/>
                </a:lnTo>
                <a:lnTo>
                  <a:pt x="229428" y="413871"/>
                </a:lnTo>
                <a:lnTo>
                  <a:pt x="180495" y="427840"/>
                </a:lnTo>
                <a:lnTo>
                  <a:pt x="131866" y="443088"/>
                </a:lnTo>
                <a:lnTo>
                  <a:pt x="83565" y="459613"/>
                </a:lnTo>
                <a:lnTo>
                  <a:pt x="0" y="225298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bject 25"/>
          <p:cNvSpPr/>
          <p:nvPr/>
        </p:nvSpPr>
        <p:spPr>
          <a:xfrm>
            <a:off x="3375000" y="2933640"/>
            <a:ext cx="2438280" cy="72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traight Connector 10"/>
          <p:cNvSpPr/>
          <p:nvPr/>
        </p:nvSpPr>
        <p:spPr>
          <a:xfrm>
            <a:off x="-11160" y="692280"/>
            <a:ext cx="916632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" descr=""/>
          <p:cNvPicPr/>
          <p:nvPr/>
        </p:nvPicPr>
        <p:blipFill>
          <a:blip r:embed="rId1"/>
          <a:stretch/>
        </p:blipFill>
        <p:spPr>
          <a:xfrm>
            <a:off x="0" y="809640"/>
            <a:ext cx="9144000" cy="59832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7"/>
          <p:cNvSpPr/>
          <p:nvPr/>
        </p:nvSpPr>
        <p:spPr>
          <a:xfrm>
            <a:off x="210960" y="26676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THANK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hape 99" descr=""/>
          <p:cNvPicPr/>
          <p:nvPr/>
        </p:nvPicPr>
        <p:blipFill>
          <a:blip r:embed="rId1"/>
          <a:stretch/>
        </p:blipFill>
        <p:spPr>
          <a:xfrm>
            <a:off x="5499000" y="836640"/>
            <a:ext cx="3645000" cy="3581280"/>
          </a:xfrm>
          <a:prstGeom prst="rect">
            <a:avLst/>
          </a:prstGeom>
          <a:ln w="0">
            <a:noFill/>
          </a:ln>
        </p:spPr>
      </p:pic>
      <p:sp>
        <p:nvSpPr>
          <p:cNvPr id="54" name="Shape 100"/>
          <p:cNvSpPr/>
          <p:nvPr/>
        </p:nvSpPr>
        <p:spPr>
          <a:xfrm>
            <a:off x="0" y="3564000"/>
            <a:ext cx="45720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Policy Advo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ccess to finance- for End users and Entrepren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kills and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echnology and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Networking an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easurements, verification, monitoring and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hape 101"/>
          <p:cNvSpPr/>
          <p:nvPr/>
        </p:nvSpPr>
        <p:spPr>
          <a:xfrm>
            <a:off x="122400" y="765000"/>
            <a:ext cx="566892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LEAN is a Network of Decentralized Clean Energy Enterprises, Industries and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19 registered members across the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Unserved and underserved, Rural and ur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lectrical, thermal and motive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echnology, scale and resources agnost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hape 102"/>
          <p:cNvSpPr/>
          <p:nvPr/>
        </p:nvSpPr>
        <p:spPr>
          <a:xfrm>
            <a:off x="231840" y="3274920"/>
            <a:ext cx="1339920" cy="308160"/>
          </a:xfrm>
          <a:prstGeom prst="rect">
            <a:avLst/>
          </a:prstGeom>
          <a:solidFill>
            <a:srgbClr val="d6e3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 Area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hape 103" descr=""/>
          <p:cNvPicPr/>
          <p:nvPr/>
        </p:nvPicPr>
        <p:blipFill>
          <a:blip r:embed="rId2"/>
          <a:stretch/>
        </p:blipFill>
        <p:spPr>
          <a:xfrm>
            <a:off x="3906720" y="5357880"/>
            <a:ext cx="5237280" cy="1255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58" name="Shape 104"/>
          <p:cNvSpPr/>
          <p:nvPr/>
        </p:nvSpPr>
        <p:spPr>
          <a:xfrm>
            <a:off x="5510160" y="4941720"/>
            <a:ext cx="9619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n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hape 105"/>
          <p:cNvSpPr/>
          <p:nvPr/>
        </p:nvSpPr>
        <p:spPr>
          <a:xfrm>
            <a:off x="60480" y="142920"/>
            <a:ext cx="8961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Abo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7238-FF99-4D6B-8B55-575093795334}" type="slidenum">
              <a:rPr b="0" lang="uk-UA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5D5B-02BF-46AB-A6F3-E0979A880061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0" y="746280"/>
            <a:ext cx="45864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MENTS TILL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and Netwo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9 registered me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people participated in India Energy Access Summits IEAS and India Clean Cooking Forum  ICCF (every year since last 3 yea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shed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dition of State of Decentralised renewable energy sector report in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ed in working group meetings and provided inputs on behalf of the industry in developing National Energy Policy 2017 (NITI Aayog), Mini-grid policy, and benchmark revision committee (MN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shed study report on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needs of CLEAN member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ilitated development of DREEM tool and will be hosting on CLEAN web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ki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shed Solar mini grid technician handbook.  Solar mini-grid enterprises handbook is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ed CLEAN-GSES app for troubleshoo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ed AIREC decision making tool for cook sto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ed 40 trainers, who inturn trained 1800 workforce in DRE s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4614840" y="709560"/>
            <a:ext cx="452916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  <a:ea typeface="Arial"/>
              </a:rPr>
              <a:t>WAY FORWARD (next 5 yea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and Netwo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  <a:ea typeface="Arial"/>
              </a:rPr>
              <a:t>Increase membership to 5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  <a:ea typeface="Arial"/>
              </a:rPr>
              <a:t>Conduct IEAS, ICCF annu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 yearly state of sector reports (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edition to be released on 7 Sept 201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licy (DRE conducive poli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vide inputs to redfine village electr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ribute to rolling out National Clean Cooking 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pport energy access plans /mini-grid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ribute to preparation of SDG compliant plans and SDG progress tracking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stablish finance facilitation de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sitise financial institutions on D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cilitate greater use of existing financing facilities such as kfW-IREDA credit line, US India Clean Energy Fund, cKers, Pacesetter fund, micro-grid investment accelerator, CSR funds for D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kills and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elop online job portal for job seekers and DRE indu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dentifying skill gaps, developing curricula (in local languages as well) and institutionalizing them in the existing training institu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t up DRE labs for hands on skil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hape 105"/>
          <p:cNvSpPr/>
          <p:nvPr/>
        </p:nvSpPr>
        <p:spPr>
          <a:xfrm>
            <a:off x="60480" y="142920"/>
            <a:ext cx="8961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Achievements and Way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B4D4-4E38-4D99-96EC-526FC552F887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82520" y="746280"/>
            <a:ext cx="41655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MENTS TILL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ology and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ar irrigation with Remote Monitoring System in collaboration with EMSYS (under demonstr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able Emission measurement system in collaboration with IIT Mumba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-ion model through single phase VFD with Panasonic, 5 minigrids to be integ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guidelines for minigrids and Solar Home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 efficient Direct Current Appliances (DC mixer) – prototype developed,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totype under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ed Micro inverter and first lot is tested in North e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sales service app for DRE appliances – under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loguing with Bureau of Indian Standards to revise Solar Lanterns standards to help Indian manufacturers to access international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4309920" y="839880"/>
            <a:ext cx="483408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ology and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te to revising existing standards to benefit make in India and leverage global market for DRE Industry, specifically CLEAN memb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ilitate technology transfer to DRE Industry, CLEAN members from Indian designers (IITs, CSIR, NISE, other such agencies), technology from other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missing technology pieces and contribute to develop solutions – such as DC powered applia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CLEAN members in filing Intellectual Property R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te to development of common toolkits, manuals and Standard Operating Prac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specific DRE markets, products and contribute to market research, and development of product pro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development to (i) promote clean cooking systems, (ii) RE based industrial heat applications and (iii) RE based livelihoods/ enterpri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te to the development of customized market models such as Renewable Energy Service Compan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ment, verification, monitoring and 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te to the development measurement, verification, monitoring and evaluation systems, dashboards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hape 105"/>
          <p:cNvSpPr/>
          <p:nvPr/>
        </p:nvSpPr>
        <p:spPr>
          <a:xfrm>
            <a:off x="60480" y="142920"/>
            <a:ext cx="8961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Achievements and Way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traight Connector 9"/>
          <p:cNvSpPr/>
          <p:nvPr/>
        </p:nvSpPr>
        <p:spPr>
          <a:xfrm>
            <a:off x="-11160" y="692280"/>
            <a:ext cx="916632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0" y="765000"/>
            <a:ext cx="90835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0" y="765000"/>
            <a:ext cx="9021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Off Grid Lighting Association (GOG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ing together to collec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base Management and Analy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Arial"/>
              </a:rPr>
              <a:t>Hydro Power Netw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HP N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Arial"/>
              </a:rPr>
              <a:t>Expanding Small Hydro network through an Internation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anasonic ( Lithium ion battery technolo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mplement existing ecosystem with Lithum ion battery technology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ergo (Blockchain Technology for Mini G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lot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dditional resources to assist CLEAN</a:t>
            </a:r>
            <a:r>
              <a:rPr b="0" i="1" lang="ja-JP" sz="1800" spc="-1" strike="noStrike">
                <a:solidFill>
                  <a:srgbClr val="ff0000"/>
                </a:solidFill>
                <a:latin typeface="Arial"/>
                <a:ea typeface="Arial"/>
              </a:rPr>
              <a:t>’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 initia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6. International Solar Alliance (in prog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grammatic and Organisational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Skill Council of Green Jobs (SCGJ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ollaboration to uplift DRE sector through Skill, Training and Capacit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owered, Start up Zone (in prog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Women enterpreneu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hape 105"/>
          <p:cNvSpPr/>
          <p:nvPr/>
        </p:nvSpPr>
        <p:spPr>
          <a:xfrm>
            <a:off x="60480" y="142920"/>
            <a:ext cx="8961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MoUs with 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traight Connector 9"/>
          <p:cNvSpPr/>
          <p:nvPr/>
        </p:nvSpPr>
        <p:spPr>
          <a:xfrm>
            <a:off x="-11160" y="692280"/>
            <a:ext cx="916632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0" y="765000"/>
            <a:ext cx="908352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Extend of finance facilitation de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Provide daily, weekly, monthly and periodic updates on the sector through WhatsApp, website, artic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Conduct regional meetings to bring synergy between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Facilitate benchmarks, standardisation, Quality Assurance systems of the products, liaising with standards setting organisations like Bureau of Indian Standards, IEC on behalf of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Campaign for DRE products to increase overall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Publish member case study (article, Audio Visual) on CLEA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Provide 1 intern per two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hape 105"/>
          <p:cNvSpPr/>
          <p:nvPr/>
        </p:nvSpPr>
        <p:spPr>
          <a:xfrm>
            <a:off x="60480" y="142920"/>
            <a:ext cx="8961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  <a:ea typeface="Calibri"/>
              </a:rPr>
              <a:t>Membe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10960" y="839880"/>
            <a:ext cx="4656240" cy="369576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0" y="247680"/>
            <a:ext cx="69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LEAN Mini Grid players outreach pan In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8"/>
          <p:cNvSpPr/>
          <p:nvPr/>
        </p:nvSpPr>
        <p:spPr>
          <a:xfrm>
            <a:off x="5292720" y="692280"/>
            <a:ext cx="3743280" cy="587160"/>
          </a:xfrm>
          <a:prstGeom prst="ellips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ff0000"/>
                </a:solidFill>
                <a:latin typeface="Arial"/>
              </a:rPr>
              <a:t>CLEAN Mini Grid Play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6"/>
          <p:cNvSpPr/>
          <p:nvPr/>
        </p:nvSpPr>
        <p:spPr>
          <a:xfrm>
            <a:off x="5076720" y="1239840"/>
            <a:ext cx="1871640" cy="870120"/>
          </a:xfrm>
          <a:prstGeom prst="ellipse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16 Mini Grid play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7"/>
          <p:cNvSpPr/>
          <p:nvPr/>
        </p:nvSpPr>
        <p:spPr>
          <a:xfrm>
            <a:off x="7034040" y="1262160"/>
            <a:ext cx="1873440" cy="806400"/>
          </a:xfrm>
          <a:prstGeom prst="ellipse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1400+ instal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8"/>
          <p:cNvSpPr/>
          <p:nvPr/>
        </p:nvSpPr>
        <p:spPr>
          <a:xfrm>
            <a:off x="5119560" y="2116080"/>
            <a:ext cx="1871640" cy="881280"/>
          </a:xfrm>
          <a:prstGeom prst="ellipse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10-40kW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9"/>
          <p:cNvSpPr/>
          <p:nvPr/>
        </p:nvSpPr>
        <p:spPr>
          <a:xfrm>
            <a:off x="7023240" y="2085840"/>
            <a:ext cx="1871640" cy="897120"/>
          </a:xfrm>
          <a:prstGeom prst="ellipse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70-80 % Utilization 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0"/>
          <p:cNvSpPr/>
          <p:nvPr/>
        </p:nvSpPr>
        <p:spPr>
          <a:xfrm>
            <a:off x="5148360" y="3036960"/>
            <a:ext cx="1871640" cy="831600"/>
          </a:xfrm>
          <a:prstGeom prst="ellipse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152112 lives impa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1"/>
          <p:cNvSpPr/>
          <p:nvPr/>
        </p:nvSpPr>
        <p:spPr>
          <a:xfrm>
            <a:off x="7005600" y="2943360"/>
            <a:ext cx="1871640" cy="896760"/>
          </a:xfrm>
          <a:prstGeom prst="ellipse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34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Commercial users and sh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22"/>
          <p:cNvSpPr/>
          <p:nvPr/>
        </p:nvSpPr>
        <p:spPr>
          <a:xfrm>
            <a:off x="6137280" y="3730680"/>
            <a:ext cx="1871640" cy="826920"/>
          </a:xfrm>
          <a:prstGeom prst="ellipse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Better billing efficien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Image result for mini grid"/>
          <p:cNvPicPr/>
          <p:nvPr/>
        </p:nvPicPr>
        <p:blipFill>
          <a:blip r:embed="rId2"/>
          <a:stretch/>
        </p:blipFill>
        <p:spPr>
          <a:xfrm>
            <a:off x="200160" y="4448160"/>
            <a:ext cx="3517920" cy="2409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3844800" y="4826160"/>
            <a:ext cx="5073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 grids play an important role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ing power to remote villages and haml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ing high quality and reliable power in areas where DISCOMs are strugg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ing energy entrepreneurs – Driver for human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ing engine for driving socio-economic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adicating energy pove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ing rural economic activ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68120" y="325440"/>
            <a:ext cx="64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8000"/>
                </a:solidFill>
                <a:latin typeface="Arial"/>
                <a:ea typeface="Arial"/>
              </a:rPr>
              <a:t>Decentralise/ Distributed Generation -  A way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ttp://www.omcpower.com/wp-content/uploads/2015/01/omc_aerial_press_498px.jpg"/>
          <p:cNvPicPr/>
          <p:nvPr/>
        </p:nvPicPr>
        <p:blipFill>
          <a:blip r:embed="rId1"/>
          <a:stretch/>
        </p:blipFill>
        <p:spPr>
          <a:xfrm>
            <a:off x="289080" y="925560"/>
            <a:ext cx="4743360" cy="272880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108000" y="6388200"/>
            <a:ext cx="28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rtesy@ OMC Power, MLINDA, and BOO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http://www.omcpower.com/wp-content/uploads/2012/11/shopkeeper_lantern_498px.jpg"/>
          <p:cNvPicPr/>
          <p:nvPr/>
        </p:nvPicPr>
        <p:blipFill>
          <a:blip r:embed="rId2"/>
          <a:stretch/>
        </p:blipFill>
        <p:spPr>
          <a:xfrm>
            <a:off x="5857920" y="1193760"/>
            <a:ext cx="2690640" cy="1843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http://www.mlinda.org/wp-content/uploads/2014/04/Photo-4-Household-1.jpg"/>
          <p:cNvPicPr/>
          <p:nvPr/>
        </p:nvPicPr>
        <p:blipFill>
          <a:blip r:embed="rId3"/>
          <a:stretch/>
        </p:blipFill>
        <p:spPr>
          <a:xfrm>
            <a:off x="6453360" y="3613320"/>
            <a:ext cx="1582560" cy="2166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4"/>
          <a:stretch/>
        </p:blipFill>
        <p:spPr>
          <a:xfrm>
            <a:off x="0" y="4138560"/>
            <a:ext cx="5905440" cy="2146320"/>
          </a:xfrm>
          <a:prstGeom prst="rect">
            <a:avLst/>
          </a:prstGeom>
          <a:ln w="0">
            <a:noFill/>
          </a:ln>
        </p:spPr>
      </p:pic>
      <p:sp>
        <p:nvSpPr>
          <p:cNvPr id="94" name="TextBox 13"/>
          <p:cNvSpPr/>
          <p:nvPr/>
        </p:nvSpPr>
        <p:spPr>
          <a:xfrm>
            <a:off x="933480" y="3813120"/>
            <a:ext cx="3373560" cy="30708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Productive end use of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5705640" y="3181320"/>
            <a:ext cx="2862000" cy="30708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Increase business working h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2567160" y="6361200"/>
            <a:ext cx="3373200" cy="30708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Technology for better bill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5770440" y="5923080"/>
            <a:ext cx="3373560" cy="30708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"/>
              </a:rPr>
              <a:t>Lighting to knowledge empower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09EC-2452-4BE9-A4B2-53DA3A6BF243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4403880" y="785880"/>
            <a:ext cx="45576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lutions,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s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dentifying innovative application that can mini grid business sustainable ( Anchor load model – for example, telecom tower as anchor load, lighting etc. as additional lo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ilot of Block chain for P2P energy trading  - Incentives for energy efficiencies, thereby reduc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thium ion technology for storage (pilot with Panasonic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nanc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bt and equity requirement for Mini grid players – DREEM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licy/ 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mulating State and national policies on Mini Grids – Draft National Mini Grids 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id connected mini gr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perationa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handbook for technicia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handbook for tr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handbook for entrepreneurs (in progres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icro grid Troubleshooting App – available on google play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42840" y="55440"/>
            <a:ext cx="6485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8000"/>
                </a:solidFill>
                <a:latin typeface="Arial"/>
              </a:rPr>
              <a:t>CLEAN as facilitator, Contributor and Enabler for Mini Grid in India energy eco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4503600"/>
            <a:ext cx="1631880" cy="2178360"/>
          </a:xfrm>
          <a:prstGeom prst="rect">
            <a:avLst/>
          </a:prstGeom>
          <a:ln w="0">
            <a:noFill/>
          </a:ln>
        </p:spPr>
      </p:pic>
      <p:sp>
        <p:nvSpPr>
          <p:cNvPr id="102" name="Shape 111"/>
          <p:cNvSpPr/>
          <p:nvPr/>
        </p:nvSpPr>
        <p:spPr>
          <a:xfrm>
            <a:off x="176040" y="2320920"/>
            <a:ext cx="346716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hape 111"/>
          <p:cNvSpPr/>
          <p:nvPr/>
        </p:nvSpPr>
        <p:spPr>
          <a:xfrm>
            <a:off x="122400" y="765000"/>
            <a:ext cx="4224240" cy="21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st: Expensive on per kWh basis of electricity when compared to grid tar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nance: Since they are expensive, Financing Institutions do not show interest in financing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licy/ regulations: Not yet ready  to provide parity  in price, They stop functioning once the grid ar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perationa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ck for immediate guidelines/manuals for troubleshooting of solar Micro Grid system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sions for tariff collection is still w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Shape 114" descr=""/>
          <p:cNvPicPr/>
          <p:nvPr/>
        </p:nvPicPr>
        <p:blipFill>
          <a:blip r:embed="rId2"/>
          <a:stretch/>
        </p:blipFill>
        <p:spPr>
          <a:xfrm>
            <a:off x="2279520" y="4375080"/>
            <a:ext cx="14907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inja</dc:creator>
  <dc:description/>
  <dc:language>en-US</dc:language>
  <cp:lastModifiedBy>apple office</cp:lastModifiedBy>
  <dcterms:modified xsi:type="dcterms:W3CDTF">2018-04-18T05:16:11Z</dcterms:modified>
  <cp:revision>45</cp:revision>
  <dc:subject/>
  <dc:title>CLEAN ENERGY ACCESS NETWORK  MINI GRID TROUBLESHOOTING APPLICATION   AND  DREEM TOOL</dc:title>
</cp:coreProperties>
</file>